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42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1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23.png" ContentType="image/png"/>
  <Override PartName="/ppt/media/image10.png" ContentType="image/png"/>
  <Override PartName="/ppt/media/image6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5.jpeg" ContentType="image/jpeg"/>
  <Override PartName="/ppt/media/image4.jpeg" ContentType="image/jpeg"/>
  <Override PartName="/ppt/media/image2.png" ContentType="image/png"/>
  <Override PartName="/ppt/media/image29.png" ContentType="image/png"/>
  <Override PartName="/ppt/media/image28.png" ContentType="image/png"/>
  <Override PartName="/ppt/media/image16.jpeg" ContentType="image/jpeg"/>
  <Override PartName="/ppt/media/image27.png" ContentType="image/png"/>
  <Override PartName="/ppt/media/image25.wmf" ContentType="image/x-wmf"/>
  <Override PartName="/ppt/media/image3.png" ContentType="image/png"/>
  <Override PartName="/ppt/media/image17.jpeg" ContentType="image/jpeg"/>
  <Override PartName="/ppt/media/image26.png" ContentType="image/png"/>
  <Override PartName="/ppt/media/image24.wmf" ContentType="image/x-wmf"/>
  <Override PartName="/ppt/media/image22.png" ContentType="image/png"/>
  <Override PartName="/ppt/media/image19.jpeg" ContentType="image/jpeg"/>
  <Override PartName="/ppt/media/image21.png" ContentType="image/png"/>
  <Override PartName="/ppt/media/image18.jpeg" ContentType="image/jpeg"/>
  <Override PartName="/ppt/media/image15.jpeg" ContentType="image/jpeg"/>
  <Override PartName="/ppt/media/image1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2"/>
          </p:nvPr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998280" y="771120"/>
            <a:ext cx="5110200" cy="383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946080" y="4860720"/>
            <a:ext cx="5207040" cy="46018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3"/>
          </p:nvPr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4"/>
          </p:nvPr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4504E484-C9F6-479D-80D7-5E7DB989995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1031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EF239263-BC46-4CF0-B40A-60C5DDC667D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46080" y="4860720"/>
            <a:ext cx="520704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1031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E1EFEC5B-4E6A-4402-8536-DE3D9180C1C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946080" y="4860720"/>
            <a:ext cx="520704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1031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501C08CB-15A1-4EE4-9128-8F2DF565834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46080" y="4860720"/>
            <a:ext cx="520704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1031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6C8F9B3A-2C6C-4AA2-A195-56F8231FC3E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46080" y="4860720"/>
            <a:ext cx="520704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1031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D4EE5A48-17B4-4E5A-AB89-A940CB2478A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46080" y="4860720"/>
            <a:ext cx="520704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1031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EEDB8BEC-D1A8-4B58-9357-5C52D8B18D6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946080" y="4860720"/>
            <a:ext cx="520704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1031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CC5647A0-2583-49A4-A476-3BA69CFB95F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709560" y="4862520"/>
            <a:ext cx="568008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1031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BC1C80D0-2027-4B44-A9E1-48A134B2779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946080" y="4860720"/>
            <a:ext cx="520704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1031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29A13893-B34B-4219-AE61-3AE92E71D4E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46080" y="4860720"/>
            <a:ext cx="520704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1031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3CED68D9-A5C6-49C5-9D5A-51F45B84889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46080" y="4860720"/>
            <a:ext cx="520704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1031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B901CF92-AD56-4A11-8A73-273C33DBFA6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46080" y="4860720"/>
            <a:ext cx="520704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1031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6FC7E3C2-2D7C-4E03-8BE1-7A1EC1D9F1A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46080" y="4860720"/>
            <a:ext cx="520704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1031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225C2E8D-57C4-452C-B8A5-A3A9A84602C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46080" y="4860720"/>
            <a:ext cx="520704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1031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F53DBFD6-5E71-4A0E-9988-38F15CBE96F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946080" y="4860720"/>
            <a:ext cx="520704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1031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C22C0B3D-F5D4-49F3-ABE9-9E8474BC2D1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946080" y="4860720"/>
            <a:ext cx="520704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1031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D02A2F75-4A5A-45AB-A989-A2DE7561A01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46080" y="4860720"/>
            <a:ext cx="520704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1031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2B25FA77-B1FE-49D6-B9F4-5CF6857B338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946080" y="4860720"/>
            <a:ext cx="520704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1031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5E5FA93D-F56B-4058-A4B4-840136E92B7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46080" y="4860720"/>
            <a:ext cx="520704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1031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2F53D311-014F-4CFD-B25B-390D4679236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946080" y="4860720"/>
            <a:ext cx="520704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1031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F117BF48-2EF2-4F86-9A1A-CDD9367EECC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946080" y="4860720"/>
            <a:ext cx="520704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1031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F997C581-9839-4871-9C85-8055655514B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946080" y="4860720"/>
            <a:ext cx="520704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1031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70787D01-D872-48D0-8332-5B94F649C27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946080" y="4860720"/>
            <a:ext cx="520704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1031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9F08A808-126C-4207-8A3F-DA8007EC658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946080" y="4860720"/>
            <a:ext cx="520704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1031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FCA7E380-0759-4562-90F8-33489F50458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46080" y="4860720"/>
            <a:ext cx="520704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1031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90285A77-C067-4866-854D-B17EA4F77CD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09560" y="4862520"/>
            <a:ext cx="568008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1031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88A95C2D-46F6-4DE4-BBC3-79628774E82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946080" y="4860720"/>
            <a:ext cx="520704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1031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CF31B90F-F7C3-44C3-9A66-9B8E12319F0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946080" y="4860720"/>
            <a:ext cx="520704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1031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F1CF5C1B-2455-4618-B324-F4B43E2335D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46080" y="4860720"/>
            <a:ext cx="520704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1031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7476A718-F6EF-4D46-9458-F672D66BD16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946080" y="4860720"/>
            <a:ext cx="520704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1031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F4F23521-F765-4D93-AE77-FDAFFE116B8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946080" y="4860720"/>
            <a:ext cx="520704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1031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46B28684-1379-48FD-812A-D33AEA478F8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46080" y="4860720"/>
            <a:ext cx="520704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1031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1F6C5A8D-9EBF-4141-ABA1-DB35017A4EE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946080" y="4860720"/>
            <a:ext cx="520704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1031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DE6AA14C-18F3-41D3-9C1F-0185940AFBD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46080" y="4860720"/>
            <a:ext cx="520704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56F6F8-3C83-43ED-9DE4-A4FE0176EB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04920" y="3859560"/>
            <a:ext cx="85341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48883B-243D-484D-B958-15114B51A2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1644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7840" y="914040"/>
            <a:ext cx="41644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04920" y="3859560"/>
            <a:ext cx="41644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7840" y="3859560"/>
            <a:ext cx="41644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90F5B2-AD75-4C1B-A549-DE958F7B2E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27478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0680" y="914040"/>
            <a:ext cx="27478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76080" y="914040"/>
            <a:ext cx="27478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04920" y="3859560"/>
            <a:ext cx="27478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0680" y="3859560"/>
            <a:ext cx="27478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76080" y="3859560"/>
            <a:ext cx="27478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95436E-8FD0-4BD3-A001-DB0B001DFC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304920" y="914040"/>
            <a:ext cx="853416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16448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7840" y="914040"/>
            <a:ext cx="416448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1676160" y="-360"/>
            <a:ext cx="746748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1644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7840" y="914040"/>
            <a:ext cx="416448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304920" y="3859560"/>
            <a:ext cx="41644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04920" y="914040"/>
            <a:ext cx="853416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0EC815-AEC1-49FC-91C1-C4A6B8C376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16448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7840" y="914040"/>
            <a:ext cx="41644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7840" y="3859560"/>
            <a:ext cx="41644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1644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7840" y="914040"/>
            <a:ext cx="41644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04920" y="3859560"/>
            <a:ext cx="85341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04920" y="3859560"/>
            <a:ext cx="85341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1644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7840" y="914040"/>
            <a:ext cx="41644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859560"/>
            <a:ext cx="41644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7840" y="3859560"/>
            <a:ext cx="41644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27478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90680" y="914040"/>
            <a:ext cx="27478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76080" y="914040"/>
            <a:ext cx="27478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304920" y="3859560"/>
            <a:ext cx="27478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90680" y="3859560"/>
            <a:ext cx="27478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76080" y="3859560"/>
            <a:ext cx="27478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8C1460-836D-47F7-8547-9144DF74BE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16448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7840" y="914040"/>
            <a:ext cx="416448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132831-3823-4598-BC93-ED8923B5A7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67E3B0-B50E-491B-BC1A-1EDEC54F51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676160" y="-360"/>
            <a:ext cx="746748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68A5F1-BCCA-48CC-A1A0-F04D363F01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1644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7840" y="914040"/>
            <a:ext cx="416448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04920" y="3859560"/>
            <a:ext cx="41644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F13635-EBE0-4F7F-9921-A9013B1EAC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16448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7840" y="914040"/>
            <a:ext cx="41644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7840" y="3859560"/>
            <a:ext cx="41644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74BCB2-1F08-41AF-A828-CA194CA665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1644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7840" y="914040"/>
            <a:ext cx="41644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04920" y="3859560"/>
            <a:ext cx="85341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B05268-4D34-4157-8E92-B4B88336E9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04920" y="914040"/>
            <a:ext cx="853416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  <a:p>
            <a:pPr lvl="1" marL="762120" indent="-285840"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  <a:p>
            <a:pPr lvl="2" marL="1143000" indent="-190440"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  <a:p>
            <a:pPr lvl="3" marL="1523880" indent="-190440"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  <a:p>
            <a:pPr lvl="4" marL="1943280" indent="-190800"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  <a:p>
            <a:pPr lvl="5" marL="1943280" indent="-1908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  <a:p>
            <a:pPr lvl="6" marL="1943280" indent="-1908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7b1c15"/>
                </a:solidFill>
                <a:latin typeface="Optima Medium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040C1-81B2-4454-832A-81E4AB81BBC3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1028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7b1c15"/>
          </a:solidFill>
          <a:ln w="9360">
            <a:solidFill>
              <a:srgbClr val="6324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5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7b1c15"/>
          </a:solidFill>
          <a:ln w="9360">
            <a:solidFill>
              <a:srgbClr val="6324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304920" y="914040"/>
            <a:ext cx="853416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  <a:p>
            <a:pPr lvl="1" marL="762120" indent="-285840"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  <a:p>
            <a:pPr lvl="2" marL="1143000" indent="-190440"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  <a:p>
            <a:pPr lvl="3" marL="1523880" indent="-190440"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  <a:p>
            <a:pPr lvl="4" marL="1943280" indent="-190800"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  <a:p>
            <a:pPr lvl="5" marL="1943280" indent="-1908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  <a:p>
            <a:pPr lvl="6" marL="1943280" indent="-1908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adrpo@ida.liu.se" TargetMode="Externa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hyperlink" Target="http://www.ida.liu.se/labs/pelab/modelica/OpenModelica.htm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7b1c15"/>
                </a:solidFill>
                <a:latin typeface="Trebuchet MS"/>
              </a:rPr>
              <a:t>OpenModelica Eclipse Plugin and </a:t>
            </a:r>
            <a:br>
              <a:rPr sz="4800"/>
            </a:br>
            <a:r>
              <a:rPr b="0" lang="en-GB" sz="4800" spc="-1" strike="noStrike">
                <a:solidFill>
                  <a:srgbClr val="7b1c15"/>
                </a:solidFill>
                <a:latin typeface="Trebuchet MS"/>
              </a:rPr>
              <a:t>MetaModelica Exercises</a:t>
            </a:r>
            <a:endParaRPr b="0" lang="en-US" sz="4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042920" y="3213000"/>
            <a:ext cx="7129440" cy="20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</a:rPr>
              <a:t>Adrian Pop</a:t>
            </a:r>
            <a:endParaRPr b="0" lang="en-US" sz="2400" spc="-1" strike="noStrike">
              <a:solidFill>
                <a:srgbClr val="213159"/>
              </a:solidFill>
              <a:latin typeface="Trebuchet MS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1c1c1c"/>
                </a:solidFill>
                <a:uFillTx/>
                <a:latin typeface="Trebuchet MS"/>
                <a:hlinkClick r:id="rId1"/>
              </a:rPr>
              <a:t>adrpo@ida.liu.se</a:t>
            </a:r>
            <a:endParaRPr b="0" lang="en-US" sz="2000" spc="-1" strike="noStrike">
              <a:solidFill>
                <a:srgbClr val="213159"/>
              </a:solidFill>
              <a:latin typeface="Trebuchet MS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3159"/>
                </a:solidFill>
                <a:latin typeface="Trebuchet MS"/>
              </a:rPr>
              <a:t>PELAB/IDA/LIU,  2007-03-29</a:t>
            </a:r>
            <a:endParaRPr b="0" lang="en-US" sz="2000" spc="-1" strike="noStrike">
              <a:solidFill>
                <a:srgbClr val="213159"/>
              </a:solidFill>
              <a:latin typeface="Trebuchet MS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3159"/>
              </a:solidFill>
              <a:latin typeface="Trebuchet MS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3159"/>
                </a:solidFill>
                <a:latin typeface="Trebuchet MS"/>
              </a:rPr>
              <a:t>Updated 2009-10-19</a:t>
            </a:r>
            <a:endParaRPr b="0" lang="en-US" sz="2000" spc="-1" strike="noStrike">
              <a:solidFill>
                <a:srgbClr val="213159"/>
              </a:solidFill>
              <a:latin typeface="Trebuchet MS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3159"/>
                </a:solidFill>
                <a:latin typeface="Trebuchet MS"/>
              </a:rPr>
              <a:t>by Peter Fritzson and Martin Sjölund</a:t>
            </a:r>
            <a:endParaRPr b="0" lang="en-US" sz="2000" spc="-1" strike="noStrike">
              <a:solidFill>
                <a:srgbClr val="213159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3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B0801-E5D2-4C34-BCE2-7A4430BD9F09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how the OpenModelica Console View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117" name="Picture 4" descr=""/>
          <p:cNvPicPr/>
          <p:nvPr/>
        </p:nvPicPr>
        <p:blipFill>
          <a:blip r:embed="rId1"/>
          <a:stretch/>
        </p:blipFill>
        <p:spPr>
          <a:xfrm>
            <a:off x="0" y="571680"/>
            <a:ext cx="9144000" cy="552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Slide Number Placeholder 3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F1359-D472-4FB8-8D84-8FD483CE24D0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Exercises - </a:t>
            </a: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00_simplesim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71440" indent="-271440">
              <a:lnSpc>
                <a:spcPct val="9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See </a:t>
            </a:r>
            <a:r>
              <a:rPr b="1" lang="en-US" sz="3200" spc="-1" strike="noStrike">
                <a:solidFill>
                  <a:srgbClr val="7b1c15"/>
                </a:solidFill>
                <a:latin typeface="Courier New"/>
              </a:rPr>
              <a:t>README.txt</a:t>
            </a: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 in the Eclipse project</a:t>
            </a: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  <a:p>
            <a:pPr marL="271440" indent="-271440">
              <a:lnSpc>
                <a:spcPct val="9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In this exercise you perform a simple simulation in the MDT Eclipse environment</a:t>
            </a: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  <a:p>
            <a:pPr marL="271440" indent="-271440">
              <a:lnSpc>
                <a:spcPct val="9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b1c15"/>
                </a:solidFill>
                <a:latin typeface="Trebuchet MS"/>
              </a:rPr>
              <a:t>Assignment</a:t>
            </a: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 </a:t>
            </a: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  <a:p>
            <a:pPr lvl="1" marL="723960" indent="-27144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Type or copy a simple model into an Eclipse project</a:t>
            </a:r>
            <a:endParaRPr b="0" lang="en-US" sz="2800" spc="-1" strike="noStrike">
              <a:solidFill>
                <a:srgbClr val="213159"/>
              </a:solidFill>
              <a:latin typeface="Trebuchet MS"/>
            </a:endParaRPr>
          </a:p>
          <a:p>
            <a:pPr lvl="1" marL="723960" indent="-27144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Open the Eclipse view “OpenModelica console”</a:t>
            </a:r>
            <a:endParaRPr b="0" lang="en-US" sz="2800" spc="-1" strike="noStrike">
              <a:solidFill>
                <a:srgbClr val="213159"/>
              </a:solidFill>
              <a:latin typeface="Trebuchet MS"/>
            </a:endParaRPr>
          </a:p>
          <a:p>
            <a:pPr lvl="1" marL="723960" indent="-27144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simulate with the simulate command</a:t>
            </a:r>
            <a:endParaRPr b="0" lang="en-US" sz="2800" spc="-1" strike="noStrike">
              <a:solidFill>
                <a:srgbClr val="213159"/>
              </a:solidFill>
              <a:latin typeface="Trebuchet MS"/>
            </a:endParaRPr>
          </a:p>
          <a:p>
            <a:pPr lvl="1" marL="723960" indent="-27144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plot with the plot command.</a:t>
            </a:r>
            <a:endParaRPr b="0" lang="en-US" sz="2800" spc="-1" strike="noStrike">
              <a:solidFill>
                <a:srgbClr val="213159"/>
              </a:solidFill>
              <a:latin typeface="Trebuchet MS"/>
            </a:endParaRPr>
          </a:p>
          <a:p>
            <a:pPr marL="271440" indent="-271440">
              <a:lnSpc>
                <a:spcPct val="9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b1c15"/>
                </a:solidFill>
                <a:latin typeface="Trebuchet MS"/>
              </a:rPr>
              <a:t>Note:</a:t>
            </a: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 In the following exercises you will no longer use the “OpenModelica console”</a:t>
            </a: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Slide Number Placeholder 3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3F815-93D3-4736-B4BA-44098D175EF1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Exercises 01 - 04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0" y="620640"/>
            <a:ext cx="914400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6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3159"/>
              </a:solidFill>
              <a:latin typeface="Trebuchet MS"/>
            </a:endParaRPr>
          </a:p>
          <a:p>
            <a:pPr lvl="1" marL="762120" indent="-285840"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01_experiment</a:t>
            </a:r>
            <a:endParaRPr b="0" lang="en-US" sz="2800" spc="-1" strike="noStrike">
              <a:solidFill>
                <a:srgbClr val="213159"/>
              </a:solidFill>
              <a:latin typeface="Trebuchet MS"/>
            </a:endParaRPr>
          </a:p>
          <a:p>
            <a:pPr lvl="1" marL="762120" indent="-285840"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02a_exp1, (02b_exp2 optional)</a:t>
            </a:r>
            <a:endParaRPr b="0" lang="en-US" sz="2800" spc="-1" strike="noStrike">
              <a:solidFill>
                <a:srgbClr val="213159"/>
              </a:solidFill>
              <a:latin typeface="Trebuchet MS"/>
            </a:endParaRPr>
          </a:p>
          <a:p>
            <a:pPr lvl="1" marL="762120" indent="-285840"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03_symbolicderivative</a:t>
            </a:r>
            <a:endParaRPr b="0" lang="en-US" sz="2800" spc="-1" strike="noStrike">
              <a:solidFill>
                <a:srgbClr val="213159"/>
              </a:solidFill>
              <a:latin typeface="Trebuchet MS"/>
            </a:endParaRPr>
          </a:p>
          <a:p>
            <a:pPr lvl="1" marL="762120" indent="-285840"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04_assignment (optional)</a:t>
            </a:r>
            <a:endParaRPr b="0" lang="en-US" sz="2800" spc="-1" strike="noStrike">
              <a:solidFill>
                <a:srgbClr val="213159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Slide Number Placeholder 3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0E0E0-2406-48F3-90EC-FB3F761082E5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Open the first project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126" name="Picture 4" descr="step04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lide Number Placeholder 3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29A96-CEAF-45BF-9202-B073C1FB4F2A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Eclipse Setup – Creating the projects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129" name="Picture 4" descr=""/>
          <p:cNvPicPr/>
          <p:nvPr/>
        </p:nvPicPr>
        <p:blipFill>
          <a:blip r:embed="rId1"/>
          <a:stretch/>
        </p:blipFill>
        <p:spPr>
          <a:xfrm>
            <a:off x="395280" y="620640"/>
            <a:ext cx="8280360" cy="6210360"/>
          </a:xfrm>
          <a:prstGeom prst="rect">
            <a:avLst/>
          </a:prstGeom>
          <a:ln w="0">
            <a:noFill/>
          </a:ln>
        </p:spPr>
      </p:pic>
      <p:sp>
        <p:nvSpPr>
          <p:cNvPr id="130" name="Line 5"/>
          <p:cNvSpPr/>
          <p:nvPr/>
        </p:nvSpPr>
        <p:spPr>
          <a:xfrm flipH="1" flipV="1">
            <a:off x="3995280" y="1915920"/>
            <a:ext cx="1584360" cy="1439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6"/>
          <p:cNvSpPr/>
          <p:nvPr/>
        </p:nvSpPr>
        <p:spPr>
          <a:xfrm>
            <a:off x="5601960" y="3357720"/>
            <a:ext cx="2939040" cy="1191240"/>
          </a:xfrm>
          <a:prstGeom prst="rect">
            <a:avLst/>
          </a:prstGeom>
          <a:solidFill>
            <a:srgbClr val="ffff99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Automatical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ould be </a:t>
            </a:r>
            <a:r>
              <a:rPr b="0" lang="en-US" sz="2400" spc="-1" strike="noStrike">
                <a:solidFill>
                  <a:srgbClr val="7b1c15"/>
                </a:solidFill>
                <a:latin typeface="Times New Roman"/>
              </a:rPr>
              <a:t>DISAB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all pro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Slide Number Placeholder 3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AE617-E676-4C4B-AC8A-983F92A2ECA1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Build the first project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134" name="Picture 4" descr="step05"/>
          <p:cNvPicPr/>
          <p:nvPr/>
        </p:nvPicPr>
        <p:blipFill>
          <a:blip r:embed="rId1"/>
          <a:stretch/>
        </p:blipFill>
        <p:spPr>
          <a:xfrm>
            <a:off x="0" y="620640"/>
            <a:ext cx="9180360" cy="573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Slide Number Placeholder 3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5F104-02A6-40B0-BAC1-5C6C006FC308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Eclipse – Building a project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137" name="Picture 4" descr=""/>
          <p:cNvPicPr/>
          <p:nvPr/>
        </p:nvPicPr>
        <p:blipFill>
          <a:blip r:embed="rId1"/>
          <a:stretch/>
        </p:blipFill>
        <p:spPr>
          <a:xfrm>
            <a:off x="468360" y="620640"/>
            <a:ext cx="8351640" cy="6264360"/>
          </a:xfrm>
          <a:prstGeom prst="rect">
            <a:avLst/>
          </a:prstGeom>
          <a:ln w="0">
            <a:noFill/>
          </a:ln>
        </p:spPr>
      </p:pic>
      <p:sp>
        <p:nvSpPr>
          <p:cNvPr id="138" name="Line 5"/>
          <p:cNvSpPr/>
          <p:nvPr/>
        </p:nvSpPr>
        <p:spPr>
          <a:xfrm flipH="1">
            <a:off x="4572000" y="2133720"/>
            <a:ext cx="720720" cy="2374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6"/>
          <p:cNvSpPr/>
          <p:nvPr/>
        </p:nvSpPr>
        <p:spPr>
          <a:xfrm>
            <a:off x="4513680" y="907920"/>
            <a:ext cx="5072760" cy="1191240"/>
          </a:xfrm>
          <a:prstGeom prst="rect">
            <a:avLst/>
          </a:prstGeom>
          <a:solidFill>
            <a:srgbClr val="ffff99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eave emp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builds the pro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ea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cleans the pro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u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runs the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Line 7"/>
          <p:cNvSpPr/>
          <p:nvPr/>
        </p:nvSpPr>
        <p:spPr>
          <a:xfrm flipH="1" flipV="1">
            <a:off x="2843280" y="4869000"/>
            <a:ext cx="1728720" cy="1296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Line 8"/>
          <p:cNvSpPr/>
          <p:nvPr/>
        </p:nvSpPr>
        <p:spPr>
          <a:xfrm flipV="1">
            <a:off x="1619280" y="4869000"/>
            <a:ext cx="431640" cy="72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9"/>
          <p:cNvSpPr/>
          <p:nvPr/>
        </p:nvSpPr>
        <p:spPr>
          <a:xfrm>
            <a:off x="103320" y="5597640"/>
            <a:ext cx="2614680" cy="1191240"/>
          </a:xfrm>
          <a:prstGeom prst="rect">
            <a:avLst/>
          </a:prstGeom>
          <a:solidFill>
            <a:srgbClr val="ffff99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blem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roblems view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fter the bui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10"/>
          <p:cNvSpPr/>
          <p:nvPr/>
        </p:nvSpPr>
        <p:spPr>
          <a:xfrm>
            <a:off x="4586040" y="5950080"/>
            <a:ext cx="3589920" cy="825480"/>
          </a:xfrm>
          <a:prstGeom prst="rect">
            <a:avLst/>
          </a:prstGeom>
          <a:solidFill>
            <a:srgbClr val="ffff99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build and run res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displayed in 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so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Slide Number Placeholder 3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6DE7C-1870-46C0-9BE6-740CFDE34C69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etting the debug configuration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146" name="Picture 4" descr="step07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Slide Number Placeholder 3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CFFB8-5BBA-43B1-BA12-2AC4E18B5F86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42560" y="-360"/>
            <a:ext cx="81010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pecify the executable from the project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149" name="Picture 4" descr="step08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150" name="Line 5"/>
          <p:cNvSpPr/>
          <p:nvPr/>
        </p:nvSpPr>
        <p:spPr>
          <a:xfrm flipH="1" flipV="1">
            <a:off x="5724000" y="2349360"/>
            <a:ext cx="955800" cy="640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6"/>
          <p:cNvSpPr/>
          <p:nvPr/>
        </p:nvSpPr>
        <p:spPr>
          <a:xfrm>
            <a:off x="5508720" y="2997360"/>
            <a:ext cx="3168720" cy="1191240"/>
          </a:xfrm>
          <a:prstGeom prst="rect">
            <a:avLst/>
          </a:prstGeom>
          <a:solidFill>
            <a:srgbClr val="ffff99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Browse and select the executable you just buil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Line 7"/>
          <p:cNvSpPr/>
          <p:nvPr/>
        </p:nvSpPr>
        <p:spPr>
          <a:xfrm flipV="1">
            <a:off x="3079800" y="3068280"/>
            <a:ext cx="52200" cy="2297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8"/>
          <p:cNvSpPr/>
          <p:nvPr/>
        </p:nvSpPr>
        <p:spPr>
          <a:xfrm>
            <a:off x="1908000" y="5373720"/>
            <a:ext cx="2232360" cy="825480"/>
          </a:xfrm>
          <a:prstGeom prst="rect">
            <a:avLst/>
          </a:prstGeom>
          <a:solidFill>
            <a:srgbClr val="ffff99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 paramet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the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Slide Number Placeholder 3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B72BA-46D2-48F3-8D64-4D3A5AD6D4C3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pecify the name of the executable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156" name="Picture 4" descr="step09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157" name="Line 5"/>
          <p:cNvSpPr/>
          <p:nvPr/>
        </p:nvSpPr>
        <p:spPr>
          <a:xfrm flipH="1" flipV="1">
            <a:off x="5651280" y="2349360"/>
            <a:ext cx="1244520" cy="640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6"/>
          <p:cNvSpPr/>
          <p:nvPr/>
        </p:nvSpPr>
        <p:spPr>
          <a:xfrm>
            <a:off x="5724360" y="2997360"/>
            <a:ext cx="3168720" cy="1191240"/>
          </a:xfrm>
          <a:prstGeom prst="rect">
            <a:avLst/>
          </a:prstGeom>
          <a:solidFill>
            <a:srgbClr val="ffff99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Browse and select the executable you just buil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Slide Number Placeholder 3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7EFF6-765F-49CE-A3A9-75F7C13574FD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OpenModelica MDT – Eclipse Plugin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</a:rPr>
              <a:t>Browsing of packages, classes, functions</a:t>
            </a:r>
            <a:endParaRPr b="0" lang="en-US" sz="2400" spc="-1" strike="noStrike">
              <a:solidFill>
                <a:srgbClr val="213159"/>
              </a:solidFill>
              <a:latin typeface="Trebuchet MS"/>
            </a:endParaRPr>
          </a:p>
          <a:p>
            <a:pPr marL="285840" indent="-285840"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</a:rPr>
              <a:t>Automatic building of executables; </a:t>
            </a:r>
            <a:br>
              <a:rPr sz="2400"/>
            </a:br>
            <a:r>
              <a:rPr b="0" lang="en-US" sz="2400" spc="-1" strike="noStrike">
                <a:solidFill>
                  <a:srgbClr val="213159"/>
                </a:solidFill>
                <a:latin typeface="Trebuchet MS"/>
              </a:rPr>
              <a:t>separate compilation</a:t>
            </a:r>
            <a:endParaRPr b="0" lang="en-US" sz="2400" spc="-1" strike="noStrike">
              <a:solidFill>
                <a:srgbClr val="213159"/>
              </a:solidFill>
              <a:latin typeface="Trebuchet MS"/>
            </a:endParaRPr>
          </a:p>
          <a:p>
            <a:pPr marL="285840" indent="-285840"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</a:rPr>
              <a:t>Syntax highlighting</a:t>
            </a:r>
            <a:endParaRPr b="0" lang="en-US" sz="2400" spc="-1" strike="noStrike">
              <a:solidFill>
                <a:srgbClr val="213159"/>
              </a:solidFill>
              <a:latin typeface="Trebuchet MS"/>
            </a:endParaRPr>
          </a:p>
          <a:p>
            <a:pPr marL="285840" indent="-285840"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</a:rPr>
              <a:t>Code completion, </a:t>
            </a:r>
            <a:br>
              <a:rPr sz="2400"/>
            </a:br>
            <a:r>
              <a:rPr b="0" lang="en-US" sz="2400" spc="-1" strike="noStrike">
                <a:solidFill>
                  <a:srgbClr val="213159"/>
                </a:solidFill>
                <a:latin typeface="Trebuchet MS"/>
              </a:rPr>
              <a:t>Code query support for developers</a:t>
            </a:r>
            <a:endParaRPr b="0" lang="en-US" sz="2400" spc="-1" strike="noStrike">
              <a:solidFill>
                <a:srgbClr val="213159"/>
              </a:solidFill>
              <a:latin typeface="Trebuchet MS"/>
            </a:endParaRPr>
          </a:p>
          <a:p>
            <a:pPr marL="285840" indent="-285840"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</a:rPr>
              <a:t>Automatic Indentation</a:t>
            </a:r>
            <a:endParaRPr b="0" lang="en-US" sz="2400" spc="-1" strike="noStrike">
              <a:solidFill>
                <a:srgbClr val="213159"/>
              </a:solidFill>
              <a:latin typeface="Trebuchet MS"/>
            </a:endParaRPr>
          </a:p>
          <a:p>
            <a:pPr marL="285840" indent="-285840"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</a:rPr>
              <a:t>Debugger </a:t>
            </a:r>
            <a:br>
              <a:rPr sz="2400"/>
            </a:br>
            <a:r>
              <a:rPr b="0" lang="en-US" sz="2400" spc="-1" strike="noStrike">
                <a:solidFill>
                  <a:srgbClr val="213159"/>
                </a:solidFill>
                <a:latin typeface="Trebuchet MS"/>
              </a:rPr>
              <a:t>(Prel. version for algorithmic subset)</a:t>
            </a:r>
            <a:endParaRPr b="0" lang="en-US" sz="2400" spc="-1" strike="noStrike">
              <a:solidFill>
                <a:srgbClr val="213159"/>
              </a:solidFill>
              <a:latin typeface="Trebuchet MS"/>
            </a:endParaRPr>
          </a:p>
        </p:txBody>
      </p:sp>
      <p:pic>
        <p:nvPicPr>
          <p:cNvPr id="91" name="Picture 4" descr="eclipseplatform"/>
          <p:cNvPicPr/>
          <p:nvPr/>
        </p:nvPicPr>
        <p:blipFill>
          <a:blip r:embed="rId1"/>
          <a:stretch/>
        </p:blipFill>
        <p:spPr>
          <a:xfrm>
            <a:off x="5956200" y="1692360"/>
            <a:ext cx="2990880" cy="37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Slide Number Placeholder 3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58456-3A80-4A46-8A34-664EB21704A6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et breakpoints in .mo file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161" name="Picture 4" descr="step10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162" name="Line 5"/>
          <p:cNvSpPr/>
          <p:nvPr/>
        </p:nvSpPr>
        <p:spPr>
          <a:xfrm flipH="1" flipV="1">
            <a:off x="2050920" y="2923920"/>
            <a:ext cx="1532160" cy="15764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6"/>
          <p:cNvSpPr/>
          <p:nvPr/>
        </p:nvSpPr>
        <p:spPr>
          <a:xfrm>
            <a:off x="2411280" y="4508640"/>
            <a:ext cx="3168720" cy="825480"/>
          </a:xfrm>
          <a:prstGeom prst="rect">
            <a:avLst/>
          </a:prstGeom>
          <a:solidFill>
            <a:srgbClr val="ffff99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uble click on the ruler to set break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Slide Number Placeholder 3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99639-BDE4-46C7-8EFE-AD4CBEBC8640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7487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Run the debug configuration to start debugging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166" name="Picture 4" descr="step11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167" name="Line 5"/>
          <p:cNvSpPr/>
          <p:nvPr/>
        </p:nvSpPr>
        <p:spPr>
          <a:xfrm flipH="1" flipV="1">
            <a:off x="971640" y="981000"/>
            <a:ext cx="1603440" cy="3160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6"/>
          <p:cNvSpPr/>
          <p:nvPr/>
        </p:nvSpPr>
        <p:spPr>
          <a:xfrm>
            <a:off x="1403280" y="4149720"/>
            <a:ext cx="3384720" cy="1191240"/>
          </a:xfrm>
          <a:prstGeom prst="rect">
            <a:avLst/>
          </a:prstGeom>
          <a:solidFill>
            <a:srgbClr val="ffff99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and select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bug configur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debugging will star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Slide Number Placeholder 3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F301B-DB83-42F0-9562-B1C3743B6615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Eclipse will ask to switch to debugging perspective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171" name="Picture 4" descr="step12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Slide Number Placeholder 3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E9CDE-0E9F-4C19-8AD6-EEEFCE903BA7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Debugging perspective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174" name="Picture 4" descr="step13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175" name="Line 5"/>
          <p:cNvSpPr/>
          <p:nvPr/>
        </p:nvSpPr>
        <p:spPr>
          <a:xfrm flipV="1">
            <a:off x="1763640" y="1341360"/>
            <a:ext cx="2016360" cy="345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6"/>
          <p:cNvSpPr/>
          <p:nvPr/>
        </p:nvSpPr>
        <p:spPr>
          <a:xfrm>
            <a:off x="539640" y="4797360"/>
            <a:ext cx="3168720" cy="1191240"/>
          </a:xfrm>
          <a:prstGeom prst="rect">
            <a:avLst/>
          </a:prstGeom>
          <a:solidFill>
            <a:srgbClr val="ffff99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the buttons to ste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step into works right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Line 7"/>
          <p:cNvSpPr/>
          <p:nvPr/>
        </p:nvSpPr>
        <p:spPr>
          <a:xfrm flipV="1">
            <a:off x="5219640" y="1628280"/>
            <a:ext cx="360360" cy="2808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8"/>
          <p:cNvSpPr/>
          <p:nvPr/>
        </p:nvSpPr>
        <p:spPr>
          <a:xfrm>
            <a:off x="4643280" y="4508640"/>
            <a:ext cx="3168720" cy="1191240"/>
          </a:xfrm>
          <a:prstGeom prst="rect">
            <a:avLst/>
          </a:prstGeom>
          <a:solidFill>
            <a:srgbClr val="ffff99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owse variables he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so there is a tab with breakpoi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Slide Number Placeholder 3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6591F-9788-494C-9A2C-D8F31A015B6B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witching perspectives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181" name="Picture 4" descr="step14"/>
          <p:cNvPicPr/>
          <p:nvPr/>
        </p:nvPicPr>
        <p:blipFill>
          <a:blip r:embed="rId1"/>
          <a:stretch/>
        </p:blipFill>
        <p:spPr>
          <a:xfrm>
            <a:off x="-36360" y="620640"/>
            <a:ext cx="9180360" cy="5738760"/>
          </a:xfrm>
          <a:prstGeom prst="rect">
            <a:avLst/>
          </a:prstGeom>
          <a:ln w="0">
            <a:noFill/>
          </a:ln>
        </p:spPr>
      </p:pic>
      <p:sp>
        <p:nvSpPr>
          <p:cNvPr id="182" name="Line 5"/>
          <p:cNvSpPr/>
          <p:nvPr/>
        </p:nvSpPr>
        <p:spPr>
          <a:xfrm flipV="1">
            <a:off x="4448160" y="1483920"/>
            <a:ext cx="3579840" cy="30164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6"/>
          <p:cNvSpPr/>
          <p:nvPr/>
        </p:nvSpPr>
        <p:spPr>
          <a:xfrm>
            <a:off x="3276720" y="4508640"/>
            <a:ext cx="3527280" cy="825480"/>
          </a:xfrm>
          <a:prstGeom prst="rect">
            <a:avLst/>
          </a:prstGeom>
          <a:solidFill>
            <a:srgbClr val="ffff99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itch between Debug and Modelica Perspe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Slide Number Placeholder 3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ABD74-A3B6-4362-86BA-48FA9F5B9A5F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Eclipse Setup – Creating the projects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lnSpc>
                <a:spcPct val="9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b1c15"/>
                </a:solidFill>
                <a:latin typeface="Trebuchet MS"/>
              </a:rPr>
              <a:t>repeat the procedure for all exercises</a:t>
            </a: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  <a:p>
            <a:pPr lvl="1" marL="762120" indent="-28584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01_experiment</a:t>
            </a:r>
            <a:endParaRPr b="0" lang="en-US" sz="2800" spc="-1" strike="noStrike">
              <a:solidFill>
                <a:srgbClr val="213159"/>
              </a:solidFill>
              <a:latin typeface="Trebuchet MS"/>
            </a:endParaRPr>
          </a:p>
          <a:p>
            <a:pPr lvl="1" marL="762120" indent="-28584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02a_exp1, 02b_exp2</a:t>
            </a:r>
            <a:endParaRPr b="0" lang="en-US" sz="2800" spc="-1" strike="noStrike">
              <a:solidFill>
                <a:srgbClr val="213159"/>
              </a:solidFill>
              <a:latin typeface="Trebuchet MS"/>
            </a:endParaRPr>
          </a:p>
          <a:p>
            <a:pPr lvl="1" marL="762120" indent="-28584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03_symbolicderivative</a:t>
            </a:r>
            <a:endParaRPr b="0" lang="en-US" sz="2800" spc="-1" strike="noStrike">
              <a:solidFill>
                <a:srgbClr val="213159"/>
              </a:solidFill>
              <a:latin typeface="Trebuchet MS"/>
            </a:endParaRPr>
          </a:p>
          <a:p>
            <a:pPr lvl="1" marL="762120" indent="-28584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04_assignment</a:t>
            </a:r>
            <a:endParaRPr b="0" lang="en-US" sz="2800" spc="-1" strike="noStrike">
              <a:solidFill>
                <a:srgbClr val="213159"/>
              </a:solidFill>
              <a:latin typeface="Trebuchet MS"/>
            </a:endParaRPr>
          </a:p>
          <a:p>
            <a:pPr lvl="1" marL="762120" indent="-28584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05a_assigntwotype</a:t>
            </a:r>
            <a:endParaRPr b="0" lang="en-US" sz="2800" spc="-1" strike="noStrike">
              <a:solidFill>
                <a:srgbClr val="213159"/>
              </a:solidFill>
              <a:latin typeface="Trebuchet MS"/>
            </a:endParaRPr>
          </a:p>
          <a:p>
            <a:pPr lvl="1" marL="762120" indent="-28584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05b_modassigntwotype</a:t>
            </a:r>
            <a:endParaRPr b="0" lang="en-US" sz="2800" spc="-1" strike="noStrike">
              <a:solidFill>
                <a:srgbClr val="213159"/>
              </a:solidFill>
              <a:latin typeface="Trebuchet MS"/>
            </a:endParaRPr>
          </a:p>
          <a:p>
            <a:pPr lvl="1" marL="762120" indent="-28584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06_advanced</a:t>
            </a:r>
            <a:endParaRPr b="0" lang="en-US" sz="2800" spc="-1" strike="noStrike">
              <a:solidFill>
                <a:srgbClr val="213159"/>
              </a:solidFill>
              <a:latin typeface="Trebuchet MS"/>
            </a:endParaRPr>
          </a:p>
          <a:p>
            <a:pPr lvl="1" marL="762120" indent="-28584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07_OMCAndCorba</a:t>
            </a:r>
            <a:endParaRPr b="0" lang="en-US" sz="2800" spc="-1" strike="noStrike">
              <a:solidFill>
                <a:srgbClr val="213159"/>
              </a:solidFill>
              <a:latin typeface="Trebuchet MS"/>
            </a:endParaRPr>
          </a:p>
          <a:p>
            <a:pPr marL="285840" indent="-285840">
              <a:lnSpc>
                <a:spcPct val="9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b1c15"/>
                </a:solidFill>
                <a:latin typeface="Trebuchet MS"/>
              </a:rPr>
              <a:t>leave open only the project you are working on! 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close all the others</a:t>
            </a: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  <a:p>
            <a:pPr lvl="1" marL="76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3159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Slide Number Placeholder 3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25A42-DFF7-4CB3-A12A-59C9E46788F5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Eclipse – Building a project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189" name="Picture 4" descr=""/>
          <p:cNvPicPr/>
          <p:nvPr/>
        </p:nvPicPr>
        <p:blipFill>
          <a:blip r:embed="rId1"/>
          <a:stretch/>
        </p:blipFill>
        <p:spPr>
          <a:xfrm>
            <a:off x="198360" y="620640"/>
            <a:ext cx="8621640" cy="623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Slide Number Placeholder 3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66907-DBC5-49DD-8A1C-EDE1B8440E91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Eclipse – Opening views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192" name="Picture 4" descr=""/>
          <p:cNvPicPr/>
          <p:nvPr/>
        </p:nvPicPr>
        <p:blipFill>
          <a:blip r:embed="rId1"/>
          <a:stretch/>
        </p:blipFill>
        <p:spPr>
          <a:xfrm>
            <a:off x="396720" y="620640"/>
            <a:ext cx="8352000" cy="626436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5" descr=""/>
          <p:cNvPicPr/>
          <p:nvPr/>
        </p:nvPicPr>
        <p:blipFill>
          <a:blip r:embed="rId2"/>
          <a:stretch/>
        </p:blipFill>
        <p:spPr>
          <a:xfrm>
            <a:off x="5580000" y="836640"/>
            <a:ext cx="2924280" cy="5819760"/>
          </a:xfrm>
          <a:prstGeom prst="rect">
            <a:avLst/>
          </a:prstGeom>
          <a:ln w="0">
            <a:noFill/>
          </a:ln>
        </p:spPr>
      </p:pic>
      <p:sp>
        <p:nvSpPr>
          <p:cNvPr id="194" name="Line 6"/>
          <p:cNvSpPr/>
          <p:nvPr/>
        </p:nvSpPr>
        <p:spPr>
          <a:xfrm>
            <a:off x="4572000" y="2060640"/>
            <a:ext cx="1008000" cy="1584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7"/>
          <p:cNvSpPr/>
          <p:nvPr/>
        </p:nvSpPr>
        <p:spPr>
          <a:xfrm>
            <a:off x="1734120" y="5445000"/>
            <a:ext cx="3827520" cy="825480"/>
          </a:xfrm>
          <a:prstGeom prst="rect">
            <a:avLst/>
          </a:prstGeom>
          <a:solidFill>
            <a:srgbClr val="ffff99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open additional view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b1c15"/>
                </a:solidFill>
                <a:latin typeface="Times New Roman"/>
              </a:rPr>
              <a:t>Window-&gt;ShowView-&gt;O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Slide Number Placeholder 3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BAD9E-EED5-45B8-A25A-B95E489109A6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Exercises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25280" y="914040"/>
            <a:ext cx="883944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Each exercise is in a different Eclipse project</a:t>
            </a:r>
            <a:endParaRPr b="0" lang="en-US" sz="2800" spc="-1" strike="noStrike">
              <a:solidFill>
                <a:srgbClr val="213159"/>
              </a:solidFill>
              <a:latin typeface="Trebuchet MS"/>
            </a:endParaRPr>
          </a:p>
          <a:p>
            <a:pPr marL="285840" indent="-285840"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All exercises have :</a:t>
            </a:r>
            <a:endParaRPr b="0" lang="en-US" sz="2800" spc="-1" strike="noStrike">
              <a:solidFill>
                <a:srgbClr val="213159"/>
              </a:solidFill>
              <a:latin typeface="Trebuchet MS"/>
            </a:endParaRPr>
          </a:p>
          <a:p>
            <a:pPr lvl="1" marL="762120" indent="-285840">
              <a:lnSpc>
                <a:spcPct val="10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b1c15"/>
                </a:solidFill>
                <a:latin typeface="Courier New"/>
              </a:rPr>
              <a:t>README.txt</a:t>
            </a:r>
            <a:r>
              <a:rPr b="0" lang="en-US" sz="2400" spc="-1" strike="noStrike">
                <a:solidFill>
                  <a:srgbClr val="213159"/>
                </a:solidFill>
                <a:latin typeface="Trebuchet MS"/>
              </a:rPr>
              <a:t> - information about the exercise</a:t>
            </a:r>
            <a:endParaRPr b="0" lang="en-US" sz="2400" spc="-1" strike="noStrike">
              <a:solidFill>
                <a:srgbClr val="213159"/>
              </a:solidFill>
              <a:latin typeface="Trebuchet MS"/>
            </a:endParaRPr>
          </a:p>
          <a:p>
            <a:pPr lvl="1" marL="762120" indent="-285840">
              <a:lnSpc>
                <a:spcPct val="10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b1c15"/>
                </a:solidFill>
                <a:latin typeface="Courier New"/>
              </a:rPr>
              <a:t>SOLUTION.txt</a:t>
            </a:r>
            <a:r>
              <a:rPr b="0" lang="en-US" sz="2400" spc="-1" strike="noStrike">
                <a:solidFill>
                  <a:srgbClr val="213159"/>
                </a:solidFill>
                <a:latin typeface="Trebuchet MS"/>
              </a:rPr>
              <a:t> – the solution of the exercise (if the exercise has some implementation assignment)</a:t>
            </a:r>
            <a:endParaRPr b="0" lang="en-US" sz="2400" spc="-1" strike="noStrike">
              <a:solidFill>
                <a:srgbClr val="213159"/>
              </a:solidFill>
              <a:latin typeface="Trebuchet MS"/>
            </a:endParaRPr>
          </a:p>
          <a:p>
            <a:pPr lvl="1" marL="762120" indent="-285840">
              <a:lnSpc>
                <a:spcPct val="10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b1c15"/>
                </a:solidFill>
                <a:latin typeface="Courier New"/>
              </a:rPr>
              <a:t>program.txt</a:t>
            </a:r>
            <a:r>
              <a:rPr b="1" lang="en-US" sz="2400" spc="-1" strike="noStrike">
                <a:solidFill>
                  <a:srgbClr val="213159"/>
                </a:solidFill>
                <a:latin typeface="Trebuchet MS"/>
              </a:rPr>
              <a:t> </a:t>
            </a:r>
            <a:r>
              <a:rPr b="0" lang="en-US" sz="2400" spc="-1" strike="noStrike">
                <a:solidFill>
                  <a:srgbClr val="213159"/>
                </a:solidFill>
                <a:latin typeface="Trebuchet MS"/>
              </a:rPr>
              <a:t>– input program to the exercise, edit if needed (for the exercises which have an input)</a:t>
            </a:r>
            <a:endParaRPr b="0" lang="en-US" sz="2400" spc="-1" strike="noStrike">
              <a:solidFill>
                <a:srgbClr val="213159"/>
              </a:solidFill>
              <a:latin typeface="Trebuchet MS"/>
            </a:endParaRPr>
          </a:p>
          <a:p>
            <a:pPr marL="285840" indent="-285840"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Consult the </a:t>
            </a:r>
            <a:r>
              <a:rPr b="1" lang="en-US" sz="2800" spc="-1" strike="noStrike">
                <a:solidFill>
                  <a:srgbClr val="7b1c15"/>
                </a:solidFill>
                <a:latin typeface="Courier New"/>
              </a:rPr>
              <a:t>MetaModelica Programming Guide</a:t>
            </a: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 and the slides if you need additional information during the exercises. </a:t>
            </a:r>
            <a:endParaRPr b="0" lang="en-US" sz="2800" spc="-1" strike="noStrike">
              <a:solidFill>
                <a:srgbClr val="213159"/>
              </a:solidFill>
              <a:latin typeface="Trebuchet MS"/>
            </a:endParaRPr>
          </a:p>
          <a:p>
            <a:pPr marL="285840" indent="-285840"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b1c15"/>
                </a:solidFill>
                <a:latin typeface="Trebuchet MS"/>
              </a:rPr>
              <a:t>Of course, feel free to ask us any type of questions, is faster and better!</a:t>
            </a:r>
            <a:endParaRPr b="0" lang="en-US" sz="2800" spc="-1" strike="noStrike">
              <a:solidFill>
                <a:srgbClr val="213159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Slide Number Placeholder 3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D2A44-C8D8-419D-A8F7-A66E4F2FC80E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Exercises - </a:t>
            </a: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01_experiment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See </a:t>
            </a:r>
            <a:r>
              <a:rPr b="1" lang="en-US" sz="2800" spc="-1" strike="noStrike">
                <a:solidFill>
                  <a:srgbClr val="7b1c15"/>
                </a:solidFill>
                <a:latin typeface="Courier New"/>
              </a:rPr>
              <a:t>README.txt</a:t>
            </a: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 in the Eclipse project</a:t>
            </a:r>
            <a:endParaRPr b="0" lang="en-US" sz="2800" spc="-1" strike="noStrike">
              <a:solidFill>
                <a:srgbClr val="213159"/>
              </a:solidFill>
              <a:latin typeface="Trebuchet MS"/>
            </a:endParaRPr>
          </a:p>
          <a:p>
            <a:pPr marL="285840" indent="-285840"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In this exercise you experiment with</a:t>
            </a:r>
            <a:endParaRPr b="0" lang="en-US" sz="2800" spc="-1" strike="noStrike">
              <a:solidFill>
                <a:srgbClr val="213159"/>
              </a:solidFill>
              <a:latin typeface="Trebuchet MS"/>
            </a:endParaRPr>
          </a:p>
          <a:p>
            <a:pPr lvl="1" marL="762120" indent="-285840"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</a:rPr>
              <a:t>Types</a:t>
            </a:r>
            <a:endParaRPr b="0" lang="en-US" sz="2400" spc="-1" strike="noStrike">
              <a:solidFill>
                <a:srgbClr val="213159"/>
              </a:solidFill>
              <a:latin typeface="Trebuchet MS"/>
            </a:endParaRPr>
          </a:p>
          <a:p>
            <a:pPr lvl="1" marL="762120" indent="-285840"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</a:rPr>
              <a:t>Constants</a:t>
            </a:r>
            <a:endParaRPr b="0" lang="en-US" sz="2400" spc="-1" strike="noStrike">
              <a:solidFill>
                <a:srgbClr val="213159"/>
              </a:solidFill>
              <a:latin typeface="Trebuchet MS"/>
            </a:endParaRPr>
          </a:p>
          <a:p>
            <a:pPr lvl="1" marL="762120" indent="-285840"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</a:rPr>
              <a:t>Functions</a:t>
            </a:r>
            <a:endParaRPr b="0" lang="en-US" sz="2400" spc="-1" strike="noStrike">
              <a:solidFill>
                <a:srgbClr val="213159"/>
              </a:solidFill>
              <a:latin typeface="Trebuchet MS"/>
            </a:endParaRPr>
          </a:p>
          <a:p>
            <a:pPr marL="285840" indent="-285840"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b1c15"/>
                </a:solidFill>
                <a:latin typeface="Trebuchet MS"/>
              </a:rPr>
              <a:t>Assignment</a:t>
            </a: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 </a:t>
            </a:r>
            <a:endParaRPr b="0" lang="en-US" sz="2800" spc="-1" strike="noStrike">
              <a:solidFill>
                <a:srgbClr val="213159"/>
              </a:solidFill>
              <a:latin typeface="Trebuchet MS"/>
            </a:endParaRPr>
          </a:p>
          <a:p>
            <a:pPr lvl="1" marL="762120" indent="-285840"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</a:rPr>
              <a:t>Write functions in </a:t>
            </a:r>
            <a:r>
              <a:rPr b="1" lang="en-US" sz="2400" spc="-1" strike="noStrike">
                <a:solidFill>
                  <a:srgbClr val="213159"/>
                </a:solidFill>
                <a:latin typeface="Courier New"/>
              </a:rPr>
              <a:t>Functions.mo</a:t>
            </a:r>
            <a:r>
              <a:rPr b="0" lang="en-US" sz="2400" spc="-1" strike="noStrike">
                <a:solidFill>
                  <a:srgbClr val="213159"/>
                </a:solidFill>
                <a:latin typeface="Trebuchet MS"/>
              </a:rPr>
              <a:t> to display the constants defined in </a:t>
            </a:r>
            <a:r>
              <a:rPr b="1" lang="en-US" sz="2400" spc="-1" strike="noStrike">
                <a:solidFill>
                  <a:srgbClr val="213159"/>
                </a:solidFill>
                <a:latin typeface="Courier New"/>
              </a:rPr>
              <a:t>Types.mo</a:t>
            </a:r>
            <a:r>
              <a:rPr b="0" lang="en-US" sz="2400" spc="-1" strike="noStrike">
                <a:solidFill>
                  <a:srgbClr val="213159"/>
                </a:solidFill>
                <a:latin typeface="Trebuchet MS"/>
              </a:rPr>
              <a:t>.</a:t>
            </a:r>
            <a:endParaRPr b="0" lang="en-US" sz="2400" spc="-1" strike="noStrike">
              <a:solidFill>
                <a:srgbClr val="213159"/>
              </a:solidFill>
              <a:latin typeface="Trebuchet MS"/>
            </a:endParaRPr>
          </a:p>
          <a:p>
            <a:pPr lvl="1" marL="762120" indent="-285840"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</a:rPr>
              <a:t>Search for </a:t>
            </a:r>
            <a:r>
              <a:rPr b="1" lang="en-US" sz="2400" spc="-1" strike="noStrike">
                <a:solidFill>
                  <a:srgbClr val="7b1c15"/>
                </a:solidFill>
                <a:latin typeface="Courier New"/>
              </a:rPr>
              <a:t>// your code here</a:t>
            </a:r>
            <a:r>
              <a:rPr b="0" lang="en-US" sz="2400" spc="-1" strike="noStrike">
                <a:solidFill>
                  <a:srgbClr val="213159"/>
                </a:solidFill>
                <a:latin typeface="Trebuchet MS"/>
              </a:rPr>
              <a:t> in </a:t>
            </a:r>
            <a:r>
              <a:rPr b="1" lang="en-US" sz="2400" spc="-1" strike="noStrike">
                <a:solidFill>
                  <a:srgbClr val="213159"/>
                </a:solidFill>
                <a:latin typeface="Courier New"/>
              </a:rPr>
              <a:t>Main.mo</a:t>
            </a:r>
            <a:r>
              <a:rPr b="0" lang="en-US" sz="2400" spc="-1" strike="noStrike">
                <a:solidFill>
                  <a:srgbClr val="213159"/>
                </a:solidFill>
                <a:latin typeface="Trebuchet MS"/>
              </a:rPr>
              <a:t> and </a:t>
            </a:r>
            <a:r>
              <a:rPr b="1" lang="en-US" sz="2400" spc="-1" strike="noStrike">
                <a:solidFill>
                  <a:srgbClr val="213159"/>
                </a:solidFill>
                <a:latin typeface="Courier New"/>
              </a:rPr>
              <a:t>Functions.mo</a:t>
            </a:r>
            <a:endParaRPr b="0" lang="en-US" sz="2400" spc="-1" strike="noStrike">
              <a:solidFill>
                <a:srgbClr val="213159"/>
              </a:solidFill>
              <a:latin typeface="Trebuchet MS"/>
            </a:endParaRPr>
          </a:p>
          <a:p>
            <a:pPr marL="285840" indent="-285840"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Compare your solution with the </a:t>
            </a:r>
            <a:r>
              <a:rPr b="1" lang="en-US" sz="2800" spc="-1" strike="noStrike">
                <a:solidFill>
                  <a:srgbClr val="7b1c15"/>
                </a:solidFill>
                <a:latin typeface="Courier New"/>
              </a:rPr>
              <a:t>SOLUTION.txt</a:t>
            </a: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 you find in the Eclipse project</a:t>
            </a:r>
            <a:endParaRPr b="0" lang="en-US" sz="2800" spc="-1" strike="noStrike">
              <a:solidFill>
                <a:srgbClr val="213159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3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43FC4-D34B-4680-B936-D18448BB951A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Outline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0" y="620640"/>
            <a:ext cx="914400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lnSpc>
                <a:spcPct val="9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Eclipse and Exercise Setup</a:t>
            </a: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  <a:p>
            <a:pPr marL="285840" indent="-285840">
              <a:lnSpc>
                <a:spcPct val="9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All Exercises</a:t>
            </a: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  <a:p>
            <a:pPr lvl="1" marL="762120" indent="-28584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00_simplesim</a:t>
            </a:r>
            <a:endParaRPr b="0" lang="en-US" sz="2800" spc="-1" strike="noStrike">
              <a:solidFill>
                <a:srgbClr val="213159"/>
              </a:solidFill>
              <a:latin typeface="Trebuchet MS"/>
            </a:endParaRPr>
          </a:p>
          <a:p>
            <a:pPr lvl="1" marL="762120" indent="-28584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01_experiment</a:t>
            </a:r>
            <a:endParaRPr b="0" lang="en-US" sz="2800" spc="-1" strike="noStrike">
              <a:solidFill>
                <a:srgbClr val="213159"/>
              </a:solidFill>
              <a:latin typeface="Trebuchet MS"/>
            </a:endParaRPr>
          </a:p>
          <a:p>
            <a:pPr lvl="1" marL="762120" indent="-28584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02a_exp1, 02b_exp2</a:t>
            </a:r>
            <a:endParaRPr b="0" lang="en-US" sz="2800" spc="-1" strike="noStrike">
              <a:solidFill>
                <a:srgbClr val="213159"/>
              </a:solidFill>
              <a:latin typeface="Trebuchet MS"/>
            </a:endParaRPr>
          </a:p>
          <a:p>
            <a:pPr lvl="1" marL="762120" indent="-28584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03_symbolicderivative</a:t>
            </a:r>
            <a:endParaRPr b="0" lang="en-US" sz="2800" spc="-1" strike="noStrike">
              <a:solidFill>
                <a:srgbClr val="213159"/>
              </a:solidFill>
              <a:latin typeface="Trebuchet MS"/>
            </a:endParaRPr>
          </a:p>
          <a:p>
            <a:pPr lvl="1" marL="762120" indent="-28584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04_assignment</a:t>
            </a:r>
            <a:endParaRPr b="0" lang="en-US" sz="2800" spc="-1" strike="noStrike">
              <a:solidFill>
                <a:srgbClr val="213159"/>
              </a:solidFill>
              <a:latin typeface="Trebuchet MS"/>
            </a:endParaRPr>
          </a:p>
          <a:p>
            <a:pPr lvl="1" marL="762120" indent="-28584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05a_assigntwotype</a:t>
            </a:r>
            <a:endParaRPr b="0" lang="en-US" sz="2800" spc="-1" strike="noStrike">
              <a:solidFill>
                <a:srgbClr val="213159"/>
              </a:solidFill>
              <a:latin typeface="Trebuchet MS"/>
            </a:endParaRPr>
          </a:p>
          <a:p>
            <a:pPr lvl="1" marL="762120" indent="-28584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05b_modassigntwotype</a:t>
            </a:r>
            <a:endParaRPr b="0" lang="en-US" sz="2800" spc="-1" strike="noStrike">
              <a:solidFill>
                <a:srgbClr val="213159"/>
              </a:solidFill>
              <a:latin typeface="Trebuchet MS"/>
            </a:endParaRPr>
          </a:p>
          <a:p>
            <a:pPr lvl="1" marL="762120" indent="-28584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06_advanced</a:t>
            </a:r>
            <a:endParaRPr b="0" lang="en-US" sz="2800" spc="-1" strike="noStrike">
              <a:solidFill>
                <a:srgbClr val="213159"/>
              </a:solidFill>
              <a:latin typeface="Trebuchet MS"/>
            </a:endParaRPr>
          </a:p>
          <a:p>
            <a:pPr lvl="1" marL="762120" indent="-28584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07_OMCAndCorba</a:t>
            </a:r>
            <a:endParaRPr b="0" lang="en-US" sz="2800" spc="-1" strike="noStrike">
              <a:solidFill>
                <a:srgbClr val="213159"/>
              </a:solidFill>
              <a:latin typeface="Trebuchet MS"/>
            </a:endParaRPr>
          </a:p>
          <a:p>
            <a:pPr lvl="1" marL="762120" indent="-28584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08-11 – as samples of Prog. Lang. modeling</a:t>
            </a:r>
            <a:endParaRPr b="0" lang="en-US" sz="2800" spc="-1" strike="noStrike">
              <a:solidFill>
                <a:srgbClr val="213159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Slide Number Placeholder 3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30F09-7B90-4950-A849-9361599CA2EA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Exercises – </a:t>
            </a: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02a_exp1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74320" indent="-274320"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See </a:t>
            </a:r>
            <a:r>
              <a:rPr b="1" lang="en-US" sz="2800" spc="-1" strike="noStrike">
                <a:solidFill>
                  <a:srgbClr val="7b1c15"/>
                </a:solidFill>
                <a:latin typeface="Courier New"/>
              </a:rPr>
              <a:t>README.txt</a:t>
            </a: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 in the Eclipse project</a:t>
            </a:r>
            <a:endParaRPr b="0" lang="en-US" sz="2800" spc="-1" strike="noStrike">
              <a:solidFill>
                <a:srgbClr val="213159"/>
              </a:solidFill>
              <a:latin typeface="Trebuchet MS"/>
            </a:endParaRPr>
          </a:p>
          <a:p>
            <a:pPr marL="274320" indent="-274320"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In this exercise you will add new constructs to the exp1 language and deal with their evaluation.</a:t>
            </a:r>
            <a:endParaRPr b="0" lang="en-US" sz="2800" spc="-1" strike="noStrike">
              <a:solidFill>
                <a:srgbClr val="213159"/>
              </a:solidFill>
              <a:latin typeface="Trebuchet MS"/>
            </a:endParaRPr>
          </a:p>
          <a:p>
            <a:pPr marL="274320" indent="-274320"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b1c15"/>
                </a:solidFill>
                <a:latin typeface="Trebuchet MS"/>
              </a:rPr>
              <a:t>Assignment</a:t>
            </a: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 - add new constructs to the language</a:t>
            </a:r>
            <a:endParaRPr b="0" lang="en-US" sz="2800" spc="-1" strike="noStrike">
              <a:solidFill>
                <a:srgbClr val="213159"/>
              </a:solidFill>
              <a:latin typeface="Trebuchet MS"/>
            </a:endParaRPr>
          </a:p>
          <a:p>
            <a:pPr lvl="1" marL="731520" indent="-274320"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</a:rPr>
              <a:t>a power operator    </a:t>
            </a:r>
            <a:r>
              <a:rPr b="1" lang="en-US" sz="2400" spc="-1" strike="noStrike">
                <a:solidFill>
                  <a:srgbClr val="213159"/>
                </a:solidFill>
                <a:latin typeface="Courier New"/>
              </a:rPr>
              <a:t>(^)</a:t>
            </a:r>
            <a:endParaRPr b="0" lang="en-US" sz="2400" spc="-1" strike="noStrike">
              <a:solidFill>
                <a:srgbClr val="213159"/>
              </a:solidFill>
              <a:latin typeface="Trebuchet MS"/>
            </a:endParaRPr>
          </a:p>
          <a:p>
            <a:pPr lvl="1" marL="731520" indent="-274320"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</a:rPr>
              <a:t>a factorial operator </a:t>
            </a:r>
            <a:r>
              <a:rPr b="1" lang="en-US" sz="2400" spc="-1" strike="noStrike">
                <a:solidFill>
                  <a:srgbClr val="213159"/>
                </a:solidFill>
                <a:latin typeface="Courier New"/>
              </a:rPr>
              <a:t>(!)</a:t>
            </a:r>
            <a:endParaRPr b="0" lang="en-US" sz="2400" spc="-1" strike="noStrike">
              <a:solidFill>
                <a:srgbClr val="213159"/>
              </a:solidFill>
              <a:latin typeface="Trebuchet MS"/>
            </a:endParaRPr>
          </a:p>
          <a:p>
            <a:pPr lvl="1" marL="731520" indent="-274320"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</a:rPr>
              <a:t>search for </a:t>
            </a:r>
            <a:r>
              <a:rPr b="1" lang="en-US" sz="2400" spc="-1" strike="noStrike">
                <a:solidFill>
                  <a:srgbClr val="7b1c15"/>
                </a:solidFill>
                <a:latin typeface="Courier New"/>
              </a:rPr>
              <a:t>// your code here</a:t>
            </a:r>
            <a:r>
              <a:rPr b="0" lang="en-US" sz="2400" spc="-1" strike="noStrike">
                <a:solidFill>
                  <a:srgbClr val="213159"/>
                </a:solidFill>
                <a:latin typeface="Trebuchet MS"/>
              </a:rPr>
              <a:t> within </a:t>
            </a:r>
            <a:r>
              <a:rPr b="1" lang="en-US" sz="2400" spc="-1" strike="noStrike">
                <a:solidFill>
                  <a:srgbClr val="7b1c15"/>
                </a:solidFill>
                <a:latin typeface="Courier New"/>
              </a:rPr>
              <a:t>Exp1.mo</a:t>
            </a:r>
            <a:endParaRPr b="0" lang="en-US" sz="2400" spc="-1" strike="noStrike">
              <a:solidFill>
                <a:srgbClr val="213159"/>
              </a:solidFill>
              <a:latin typeface="Trebuchet MS"/>
            </a:endParaRPr>
          </a:p>
          <a:p>
            <a:pPr marL="274320" indent="-274320"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Note</a:t>
            </a:r>
            <a:endParaRPr b="0" lang="en-US" sz="2800" spc="-1" strike="noStrike">
              <a:solidFill>
                <a:srgbClr val="213159"/>
              </a:solidFill>
              <a:latin typeface="Trebuchet MS"/>
            </a:endParaRPr>
          </a:p>
          <a:p>
            <a:pPr lvl="1" marL="731520" indent="-274320"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</a:rPr>
              <a:t>The parser/lexer are ready, but give parser errors for the new operators until they are added in </a:t>
            </a:r>
            <a:r>
              <a:rPr b="1" lang="en-US" sz="2400" spc="-1" strike="noStrike">
                <a:solidFill>
                  <a:srgbClr val="7b1c15"/>
                </a:solidFill>
                <a:latin typeface="Courier New"/>
              </a:rPr>
              <a:t>Exp1.mo</a:t>
            </a:r>
            <a:endParaRPr b="0" lang="en-US" sz="2400" spc="-1" strike="noStrike">
              <a:solidFill>
                <a:srgbClr val="213159"/>
              </a:solidFill>
              <a:latin typeface="Trebuchet MS"/>
            </a:endParaRPr>
          </a:p>
          <a:p>
            <a:pPr marL="274320" indent="-274320"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Compare your solution with the </a:t>
            </a:r>
            <a:r>
              <a:rPr b="1" lang="en-US" sz="2800" spc="-1" strike="noStrike">
                <a:solidFill>
                  <a:srgbClr val="7b1c15"/>
                </a:solidFill>
                <a:latin typeface="Courier New"/>
              </a:rPr>
              <a:t>SOLUTION.txt</a:t>
            </a: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 you find in the Eclipse project</a:t>
            </a:r>
            <a:endParaRPr b="0" lang="en-US" sz="2800" spc="-1" strike="noStrike">
              <a:solidFill>
                <a:srgbClr val="213159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Slide Number Placeholder 3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68B6C-DA2E-4111-B03F-3566E7DA79B4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Exercises – </a:t>
            </a: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02b_exp2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See </a:t>
            </a:r>
            <a:r>
              <a:rPr b="1" lang="en-US" sz="3200" spc="-1" strike="noStrike">
                <a:solidFill>
                  <a:srgbClr val="7b1c15"/>
                </a:solidFill>
                <a:latin typeface="Courier New"/>
              </a:rPr>
              <a:t>README.txt</a:t>
            </a: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 in the Eclipse project</a:t>
            </a: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  <a:p>
            <a:pPr marL="285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  <a:p>
            <a:pPr marL="285840" indent="-285840"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In this exercise you will explore a different way to model the </a:t>
            </a:r>
            <a:r>
              <a:rPr b="1" lang="en-US" sz="3200" spc="-1" strike="noStrike">
                <a:solidFill>
                  <a:srgbClr val="213159"/>
                </a:solidFill>
                <a:latin typeface="Courier New"/>
              </a:rPr>
              <a:t>exp1</a:t>
            </a: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 language using different </a:t>
            </a:r>
            <a:r>
              <a:rPr b="1" lang="en-US" sz="3200" spc="-1" strike="noStrike">
                <a:solidFill>
                  <a:srgbClr val="213159"/>
                </a:solidFill>
                <a:latin typeface="Courier New"/>
              </a:rPr>
              <a:t>Exp</a:t>
            </a: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 trees.</a:t>
            </a: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  <a:p>
            <a:pPr marL="285840" indent="-285840"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Explore the </a:t>
            </a:r>
            <a:r>
              <a:rPr b="1" lang="en-US" sz="3200" spc="-1" strike="noStrike">
                <a:solidFill>
                  <a:srgbClr val="7b1c15"/>
                </a:solidFill>
                <a:latin typeface="Courier New"/>
              </a:rPr>
              <a:t>Exp2.mo</a:t>
            </a: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 file and compare it with </a:t>
            </a:r>
            <a:r>
              <a:rPr b="1" lang="en-US" sz="3200" spc="-1" strike="noStrike">
                <a:solidFill>
                  <a:srgbClr val="7b1c15"/>
                </a:solidFill>
                <a:latin typeface="Courier New"/>
              </a:rPr>
              <a:t>Exp1.mo</a:t>
            </a: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 file.</a:t>
            </a: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  <a:p>
            <a:pPr marL="285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lide Number Placeholder 3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A0BF9-E4AE-47C0-BD81-01AF727BFD72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Exercises – </a:t>
            </a: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03_symbolicderivative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3640" y="914040"/>
            <a:ext cx="883908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See </a:t>
            </a:r>
            <a:r>
              <a:rPr b="1" lang="en-US" sz="3200" spc="-1" strike="noStrike">
                <a:solidFill>
                  <a:srgbClr val="7b1c15"/>
                </a:solidFill>
                <a:latin typeface="Courier New"/>
              </a:rPr>
              <a:t>README.txt</a:t>
            </a: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 in the Eclipse project</a:t>
            </a: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  <a:p>
            <a:pPr marL="285840" indent="-285840"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b1c15"/>
                </a:solidFill>
                <a:latin typeface="Trebuchet MS"/>
              </a:rPr>
              <a:t>Assignment</a:t>
            </a: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:</a:t>
            </a: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  <a:p>
            <a:pPr lvl="1" marL="762120" indent="-285840"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add rules to derive ‘-’, ‘*’, sine, cosine and power expressions</a:t>
            </a:r>
            <a:endParaRPr b="0" lang="en-US" sz="2800" spc="-1" strike="noStrike">
              <a:solidFill>
                <a:srgbClr val="213159"/>
              </a:solidFill>
              <a:latin typeface="Trebuchet MS"/>
            </a:endParaRPr>
          </a:p>
          <a:p>
            <a:pPr lvl="1" marL="762120" indent="-285840"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add rules to simplify ‘-’, sine, cosine and power expressions</a:t>
            </a:r>
            <a:endParaRPr b="0" lang="en-US" sz="2800" spc="-1" strike="noStrike">
              <a:solidFill>
                <a:srgbClr val="213159"/>
              </a:solidFill>
              <a:latin typeface="Trebuchet MS"/>
            </a:endParaRPr>
          </a:p>
          <a:p>
            <a:pPr lvl="1" marL="762120" indent="-285840"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search for </a:t>
            </a:r>
            <a:r>
              <a:rPr b="1" lang="en-US" sz="2800" spc="-1" strike="noStrike">
                <a:solidFill>
                  <a:srgbClr val="7b1c15"/>
                </a:solidFill>
                <a:latin typeface="Courier New"/>
              </a:rPr>
              <a:t>// your code here</a:t>
            </a: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 within </a:t>
            </a:r>
            <a:r>
              <a:rPr b="1" lang="en-US" sz="2800" spc="-1" strike="noStrike">
                <a:solidFill>
                  <a:srgbClr val="213159"/>
                </a:solidFill>
                <a:latin typeface="Courier New"/>
              </a:rPr>
              <a:t>SymbolicDerivative.mo</a:t>
            </a:r>
            <a:endParaRPr b="0" lang="en-US" sz="2800" spc="-1" strike="noStrike">
              <a:solidFill>
                <a:srgbClr val="213159"/>
              </a:solidFill>
              <a:latin typeface="Trebuchet MS"/>
            </a:endParaRPr>
          </a:p>
          <a:p>
            <a:pPr marL="285840" indent="-285840"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Compare your solution with the </a:t>
            </a:r>
            <a:r>
              <a:rPr b="1" lang="en-US" sz="2800" spc="-1" strike="noStrike">
                <a:solidFill>
                  <a:srgbClr val="7b1c15"/>
                </a:solidFill>
                <a:latin typeface="Courier New"/>
              </a:rPr>
              <a:t>SOLUTION.txt</a:t>
            </a: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 you find in the Eclipse project</a:t>
            </a:r>
            <a:endParaRPr b="0" lang="en-US" sz="2800" spc="-1" strike="noStrike">
              <a:solidFill>
                <a:srgbClr val="213159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Slide Number Placeholder 3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183DC-8CFD-4E52-B692-8F9FF9FB6F79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Exercises – </a:t>
            </a: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04_assignment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3640" y="914040"/>
            <a:ext cx="883908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See </a:t>
            </a:r>
            <a:r>
              <a:rPr b="1" lang="en-US" sz="3200" spc="-1" strike="noStrike">
                <a:solidFill>
                  <a:srgbClr val="7b1c15"/>
                </a:solidFill>
                <a:latin typeface="Courier New"/>
              </a:rPr>
              <a:t>README.txt</a:t>
            </a: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 in the Eclipse project</a:t>
            </a: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  <a:p>
            <a:pPr marL="285840" indent="-285840"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b1c15"/>
                </a:solidFill>
                <a:latin typeface="Trebuchet MS"/>
              </a:rPr>
              <a:t>Assignment </a:t>
            </a: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- add functions to print:</a:t>
            </a: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  <a:p>
            <a:pPr lvl="1" marL="762120" indent="-285840"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the assignments present in the current program before the actual evaluation</a:t>
            </a:r>
            <a:endParaRPr b="0" lang="en-US" sz="2800" spc="-1" strike="noStrike">
              <a:solidFill>
                <a:srgbClr val="213159"/>
              </a:solidFill>
              <a:latin typeface="Trebuchet MS"/>
            </a:endParaRPr>
          </a:p>
          <a:p>
            <a:pPr lvl="1" marL="762120" indent="-285840"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the environment after it was augmented with the assignments</a:t>
            </a:r>
            <a:endParaRPr b="0" lang="en-US" sz="2800" spc="-1" strike="noStrike">
              <a:solidFill>
                <a:srgbClr val="213159"/>
              </a:solidFill>
              <a:latin typeface="Trebuchet MS"/>
            </a:endParaRPr>
          </a:p>
          <a:p>
            <a:pPr lvl="1" marL="762120" indent="-285840"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search for </a:t>
            </a:r>
            <a:r>
              <a:rPr b="1" lang="en-US" sz="2800" spc="-1" strike="noStrike">
                <a:solidFill>
                  <a:srgbClr val="7b1c15"/>
                </a:solidFill>
                <a:latin typeface="Courier New"/>
              </a:rPr>
              <a:t>// your code here</a:t>
            </a: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 within </a:t>
            </a:r>
            <a:r>
              <a:rPr b="1" lang="en-US" sz="2800" spc="-1" strike="noStrike">
                <a:solidFill>
                  <a:srgbClr val="213159"/>
                </a:solidFill>
                <a:latin typeface="Courier New"/>
              </a:rPr>
              <a:t>Assignment.mo</a:t>
            </a:r>
            <a:endParaRPr b="0" lang="en-US" sz="2800" spc="-1" strike="noStrike">
              <a:solidFill>
                <a:srgbClr val="213159"/>
              </a:solidFill>
              <a:latin typeface="Trebuchet MS"/>
            </a:endParaRPr>
          </a:p>
          <a:p>
            <a:pPr marL="285840" indent="-285840"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Compare your solution with the </a:t>
            </a:r>
            <a:r>
              <a:rPr b="1" lang="en-US" sz="2800" spc="-1" strike="noStrike">
                <a:solidFill>
                  <a:srgbClr val="7b1c15"/>
                </a:solidFill>
                <a:latin typeface="Courier New"/>
              </a:rPr>
              <a:t>SOLUTION.txt</a:t>
            </a: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 you find in the Eclipse project</a:t>
            </a:r>
            <a:endParaRPr b="0" lang="en-US" sz="2800" spc="-1" strike="noStrike">
              <a:solidFill>
                <a:srgbClr val="213159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Slide Number Placeholder 3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C1763-0609-4529-B0B8-DCCE622C9E5C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Exercises – </a:t>
            </a: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05a_assigntwotype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53640" y="914040"/>
            <a:ext cx="883908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See </a:t>
            </a:r>
            <a:r>
              <a:rPr b="1" lang="en-US" sz="2800" spc="-1" strike="noStrike">
                <a:solidFill>
                  <a:srgbClr val="7b1c15"/>
                </a:solidFill>
                <a:latin typeface="Courier New"/>
              </a:rPr>
              <a:t>README.txt</a:t>
            </a: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 in the Eclipse project</a:t>
            </a:r>
            <a:endParaRPr b="0" lang="en-US" sz="2800" spc="-1" strike="noStrike">
              <a:solidFill>
                <a:srgbClr val="213159"/>
              </a:solidFill>
              <a:latin typeface="Trebuchet MS"/>
            </a:endParaRPr>
          </a:p>
          <a:p>
            <a:pPr marL="285840" indent="-285840"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b1c15"/>
                </a:solidFill>
                <a:latin typeface="Trebuchet MS"/>
              </a:rPr>
              <a:t>Assignment </a:t>
            </a: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- add functions to print:</a:t>
            </a:r>
            <a:endParaRPr b="0" lang="en-US" sz="2800" spc="-1" strike="noStrike">
              <a:solidFill>
                <a:srgbClr val="213159"/>
              </a:solidFill>
              <a:latin typeface="Trebuchet MS"/>
            </a:endParaRPr>
          </a:p>
          <a:p>
            <a:pPr lvl="1" marL="762120" indent="-285840"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</a:rPr>
              <a:t>add a new </a:t>
            </a:r>
            <a:r>
              <a:rPr b="1" lang="en-US" sz="2400" spc="-1" strike="noStrike">
                <a:solidFill>
                  <a:srgbClr val="213159"/>
                </a:solidFill>
                <a:latin typeface="Courier New"/>
              </a:rPr>
              <a:t>String</a:t>
            </a:r>
            <a:r>
              <a:rPr b="0" lang="en-US" sz="2400" spc="-1" strike="noStrike">
                <a:solidFill>
                  <a:srgbClr val="213159"/>
                </a:solidFill>
                <a:latin typeface="Trebuchet MS"/>
              </a:rPr>
              <a:t> type which can hold only integers as strings to the current </a:t>
            </a:r>
            <a:r>
              <a:rPr b="1" lang="en-US" sz="2400" spc="-1" strike="noStrike">
                <a:solidFill>
                  <a:srgbClr val="213159"/>
                </a:solidFill>
                <a:latin typeface="Courier New"/>
              </a:rPr>
              <a:t>Exp</a:t>
            </a:r>
            <a:r>
              <a:rPr b="0" lang="en-US" sz="2400" spc="-1" strike="noStrike">
                <a:solidFill>
                  <a:srgbClr val="213159"/>
                </a:solidFill>
                <a:latin typeface="Trebuchet MS"/>
              </a:rPr>
              <a:t> node </a:t>
            </a:r>
            <a:endParaRPr b="0" lang="en-US" sz="2400" spc="-1" strike="noStrike">
              <a:solidFill>
                <a:srgbClr val="213159"/>
              </a:solidFill>
              <a:latin typeface="Trebuchet MS"/>
            </a:endParaRPr>
          </a:p>
          <a:p>
            <a:pPr lvl="1" marL="762120" indent="-285840"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</a:rPr>
              <a:t>add cases to evaluate expressions/assignments of the form </a:t>
            </a:r>
            <a:r>
              <a:rPr b="1" lang="en-US" sz="2400" spc="-1" strike="noStrike">
                <a:solidFill>
                  <a:srgbClr val="213159"/>
                </a:solidFill>
                <a:latin typeface="Courier New"/>
              </a:rPr>
              <a:t>"2" + 1 + "1" + 1.0</a:t>
            </a:r>
            <a:r>
              <a:rPr b="0" lang="en-US" sz="2400" spc="-1" strike="noStrike">
                <a:solidFill>
                  <a:srgbClr val="213159"/>
                </a:solidFill>
                <a:latin typeface="Trebuchet MS"/>
              </a:rPr>
              <a:t> in the </a:t>
            </a:r>
            <a:r>
              <a:rPr b="1" lang="en-US" sz="2400" spc="-1" strike="noStrike">
                <a:solidFill>
                  <a:srgbClr val="213159"/>
                </a:solidFill>
                <a:latin typeface="Courier New"/>
              </a:rPr>
              <a:t>eval</a:t>
            </a:r>
            <a:r>
              <a:rPr b="0" lang="en-US" sz="2400" spc="-1" strike="noStrike">
                <a:solidFill>
                  <a:srgbClr val="213159"/>
                </a:solidFill>
                <a:latin typeface="Trebuchet MS"/>
              </a:rPr>
              <a:t> function</a:t>
            </a:r>
            <a:endParaRPr b="0" lang="en-US" sz="2400" spc="-1" strike="noStrike">
              <a:solidFill>
                <a:srgbClr val="213159"/>
              </a:solidFill>
              <a:latin typeface="Trebuchet MS"/>
            </a:endParaRPr>
          </a:p>
          <a:p>
            <a:pPr lvl="1" marL="762120" indent="-285840"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</a:rPr>
              <a:t>search for </a:t>
            </a:r>
            <a:r>
              <a:rPr b="1" lang="en-US" sz="2400" spc="-1" strike="noStrike">
                <a:solidFill>
                  <a:srgbClr val="7b1c15"/>
                </a:solidFill>
                <a:latin typeface="Courier New"/>
              </a:rPr>
              <a:t>// your code here</a:t>
            </a:r>
            <a:r>
              <a:rPr b="0" lang="en-US" sz="2400" spc="-1" strike="noStrike">
                <a:solidFill>
                  <a:srgbClr val="213159"/>
                </a:solidFill>
                <a:latin typeface="Trebuchet MS"/>
              </a:rPr>
              <a:t> within </a:t>
            </a:r>
            <a:r>
              <a:rPr b="1" lang="en-US" sz="2400" spc="-1" strike="noStrike">
                <a:solidFill>
                  <a:srgbClr val="213159"/>
                </a:solidFill>
                <a:latin typeface="Courier New"/>
              </a:rPr>
              <a:t>AssignTwoType.mo</a:t>
            </a:r>
            <a:endParaRPr b="0" lang="en-US" sz="2400" spc="-1" strike="noStrike">
              <a:solidFill>
                <a:srgbClr val="213159"/>
              </a:solidFill>
              <a:latin typeface="Trebuchet MS"/>
            </a:endParaRPr>
          </a:p>
          <a:p>
            <a:pPr marL="285840" indent="-285840"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</a:rPr>
              <a:t>Compare your solution with the </a:t>
            </a:r>
            <a:r>
              <a:rPr b="1" lang="en-US" sz="2400" spc="-1" strike="noStrike">
                <a:solidFill>
                  <a:srgbClr val="7b1c15"/>
                </a:solidFill>
                <a:latin typeface="Courier New"/>
              </a:rPr>
              <a:t>SOLUTION.txt</a:t>
            </a:r>
            <a:r>
              <a:rPr b="0" lang="en-US" sz="2400" spc="-1" strike="noStrike">
                <a:solidFill>
                  <a:srgbClr val="213159"/>
                </a:solidFill>
                <a:latin typeface="Trebuchet MS"/>
              </a:rPr>
              <a:t> you find in the Eclipse project</a:t>
            </a:r>
            <a:endParaRPr b="0" lang="en-US" sz="2400" spc="-1" strike="noStrike">
              <a:solidFill>
                <a:srgbClr val="213159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Slide Number Placeholder 3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3FA4D-79D4-4594-A26F-EDC7C1E640F2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Exercises – </a:t>
            </a: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05b_modassigntwotype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3640" y="914040"/>
            <a:ext cx="883908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See </a:t>
            </a:r>
            <a:r>
              <a:rPr b="1" lang="en-US" sz="3200" spc="-1" strike="noStrike">
                <a:solidFill>
                  <a:srgbClr val="7b1c15"/>
                </a:solidFill>
                <a:latin typeface="Courier New"/>
              </a:rPr>
              <a:t>README.txt</a:t>
            </a: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 in the Eclipse project</a:t>
            </a: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  <a:p>
            <a:pPr marL="285840" indent="-285840"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In this exercise you will explore a different way to structure your code within different packages.</a:t>
            </a: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  <a:p>
            <a:pPr marL="285840" indent="-285840"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The code from </a:t>
            </a:r>
            <a:r>
              <a:rPr b="1" lang="en-US" sz="3200" spc="-1" strike="noStrike">
                <a:solidFill>
                  <a:srgbClr val="213159"/>
                </a:solidFill>
                <a:latin typeface="Courier New"/>
              </a:rPr>
              <a:t>05a_assigntwotype</a:t>
            </a: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 is now split over 4 packages.</a:t>
            </a: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  <a:p>
            <a:pPr marL="285840" indent="-285840"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Compare the 05a/b projects.</a:t>
            </a: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Slide Number Placeholder 3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45A62-3725-4106-8019-2C6B1636FC10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Exercises – </a:t>
            </a: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06_advanced (I)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3640" y="914040"/>
            <a:ext cx="883908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See </a:t>
            </a:r>
            <a:r>
              <a:rPr b="1" lang="en-US" sz="2800" spc="-1" strike="noStrike">
                <a:solidFill>
                  <a:srgbClr val="7b1c15"/>
                </a:solidFill>
                <a:latin typeface="Courier New"/>
              </a:rPr>
              <a:t>README.txt</a:t>
            </a: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 in the Eclipse project</a:t>
            </a:r>
            <a:endParaRPr b="0" lang="en-US" sz="2800" spc="-1" strike="noStrike">
              <a:solidFill>
                <a:srgbClr val="213159"/>
              </a:solidFill>
              <a:latin typeface="Trebuchet MS"/>
            </a:endParaRPr>
          </a:p>
          <a:p>
            <a:pPr marL="285840" indent="-28584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In this exercise you experiment with</a:t>
            </a:r>
            <a:endParaRPr b="0" lang="en-US" sz="2800" spc="-1" strike="noStrike">
              <a:solidFill>
                <a:srgbClr val="213159"/>
              </a:solidFill>
              <a:latin typeface="Trebuchet MS"/>
            </a:endParaRPr>
          </a:p>
          <a:p>
            <a:pPr lvl="1" marL="762120" indent="-285840">
              <a:lnSpc>
                <a:spcPct val="9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</a:rPr>
              <a:t>polymorphic types</a:t>
            </a:r>
            <a:endParaRPr b="0" lang="en-US" sz="2400" spc="-1" strike="noStrike">
              <a:solidFill>
                <a:srgbClr val="213159"/>
              </a:solidFill>
              <a:latin typeface="Trebuchet MS"/>
            </a:endParaRPr>
          </a:p>
          <a:p>
            <a:pPr lvl="1" marL="762120" indent="-285840">
              <a:lnSpc>
                <a:spcPct val="9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</a:rPr>
              <a:t>constants</a:t>
            </a:r>
            <a:endParaRPr b="0" lang="en-US" sz="2400" spc="-1" strike="noStrike">
              <a:solidFill>
                <a:srgbClr val="213159"/>
              </a:solidFill>
              <a:latin typeface="Trebuchet MS"/>
            </a:endParaRPr>
          </a:p>
          <a:p>
            <a:pPr lvl="1" marL="762120" indent="-285840">
              <a:lnSpc>
                <a:spcPct val="9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</a:rPr>
              <a:t>higher order functions</a:t>
            </a:r>
            <a:endParaRPr b="0" lang="en-US" sz="2400" spc="-1" strike="noStrike">
              <a:solidFill>
                <a:srgbClr val="213159"/>
              </a:solidFill>
              <a:latin typeface="Trebuchet MS"/>
            </a:endParaRPr>
          </a:p>
          <a:p>
            <a:pPr marL="285840" indent="-28584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b1c15"/>
                </a:solidFill>
                <a:latin typeface="Trebuchet MS"/>
              </a:rPr>
              <a:t>Assignment 1</a:t>
            </a:r>
            <a:endParaRPr b="0" lang="en-US" sz="2800" spc="-1" strike="noStrike">
              <a:solidFill>
                <a:srgbClr val="213159"/>
              </a:solidFill>
              <a:latin typeface="Trebuchet MS"/>
            </a:endParaRPr>
          </a:p>
          <a:p>
            <a:pPr lvl="1" marL="762120" indent="-285840">
              <a:lnSpc>
                <a:spcPct val="9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</a:rPr>
              <a:t>Write a polymorphic function that orders a list of any type.</a:t>
            </a:r>
            <a:endParaRPr b="0" lang="en-US" sz="2400" spc="-1" strike="noStrike">
              <a:solidFill>
                <a:srgbClr val="213159"/>
              </a:solidFill>
              <a:latin typeface="Trebuchet MS"/>
            </a:endParaRPr>
          </a:p>
          <a:p>
            <a:pPr lvl="1" marL="762120" indent="-285840">
              <a:lnSpc>
                <a:spcPct val="9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</a:rPr>
              <a:t>The function has as input a list and a compare function between the objects of that list. </a:t>
            </a:r>
            <a:endParaRPr b="0" lang="en-US" sz="2400" spc="-1" strike="noStrike">
              <a:solidFill>
                <a:srgbClr val="213159"/>
              </a:solidFill>
              <a:latin typeface="Trebuchet MS"/>
            </a:endParaRPr>
          </a:p>
          <a:p>
            <a:pPr lvl="1" marL="762120" indent="-285840">
              <a:lnSpc>
                <a:spcPct val="9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</a:rPr>
              <a:t>Write the comparison functions for </a:t>
            </a:r>
            <a:r>
              <a:rPr b="1" lang="en-US" sz="2400" spc="-1" strike="noStrike">
                <a:solidFill>
                  <a:srgbClr val="213159"/>
                </a:solidFill>
                <a:latin typeface="Courier New"/>
              </a:rPr>
              <a:t>Integers</a:t>
            </a:r>
            <a:r>
              <a:rPr b="0" lang="en-US" sz="2400" spc="-1" strike="noStrike">
                <a:solidFill>
                  <a:srgbClr val="213159"/>
                </a:solidFill>
                <a:latin typeface="Courier New"/>
              </a:rPr>
              <a:t>, </a:t>
            </a:r>
            <a:r>
              <a:rPr b="1" lang="en-US" sz="2400" spc="-1" strike="noStrike">
                <a:solidFill>
                  <a:srgbClr val="213159"/>
                </a:solidFill>
                <a:latin typeface="Courier New"/>
              </a:rPr>
              <a:t>Strings</a:t>
            </a:r>
            <a:r>
              <a:rPr b="0" lang="en-US" sz="2400" spc="-1" strike="noStrike">
                <a:solidFill>
                  <a:srgbClr val="213159"/>
                </a:solidFill>
                <a:latin typeface="Trebuchet MS"/>
              </a:rPr>
              <a:t> and </a:t>
            </a:r>
            <a:r>
              <a:rPr b="1" lang="en-US" sz="2400" spc="-1" strike="noStrike">
                <a:solidFill>
                  <a:srgbClr val="213159"/>
                </a:solidFill>
                <a:latin typeface="Courier New"/>
              </a:rPr>
              <a:t>Reals</a:t>
            </a:r>
            <a:r>
              <a:rPr b="0" lang="en-US" sz="2400" spc="-1" strike="noStrike">
                <a:solidFill>
                  <a:srgbClr val="213159"/>
                </a:solidFill>
                <a:latin typeface="Trebuchet MS"/>
              </a:rPr>
              <a:t>.</a:t>
            </a:r>
            <a:endParaRPr b="0" lang="en-US" sz="2400" spc="-1" strike="noStrike">
              <a:solidFill>
                <a:srgbClr val="213159"/>
              </a:solidFill>
              <a:latin typeface="Trebuchet MS"/>
            </a:endParaRPr>
          </a:p>
          <a:p>
            <a:pPr lvl="1" marL="762120" indent="-285840">
              <a:lnSpc>
                <a:spcPct val="9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</a:rPr>
              <a:t>Test your function on the </a:t>
            </a:r>
            <a:r>
              <a:rPr b="1" lang="en-US" sz="2400" spc="-1" strike="noStrike">
                <a:solidFill>
                  <a:srgbClr val="213159"/>
                </a:solidFill>
                <a:latin typeface="Courier New"/>
              </a:rPr>
              <a:t>Types.intList</a:t>
            </a:r>
            <a:endParaRPr b="0" lang="en-US" sz="2400" spc="-1" strike="noStrike">
              <a:solidFill>
                <a:srgbClr val="213159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Slide Number Placeholder 3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5FAEE-57C6-4A65-AA74-D79FC01B177C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Exercises – </a:t>
            </a: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06_advanced (II)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3640" y="914040"/>
            <a:ext cx="883908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See </a:t>
            </a:r>
            <a:r>
              <a:rPr b="1" lang="en-US" sz="2800" spc="-1" strike="noStrike">
                <a:solidFill>
                  <a:srgbClr val="7b1c15"/>
                </a:solidFill>
                <a:latin typeface="Courier New"/>
              </a:rPr>
              <a:t>README.txt</a:t>
            </a: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 in the Eclipse project</a:t>
            </a:r>
            <a:endParaRPr b="0" lang="en-US" sz="2800" spc="-1" strike="noStrike">
              <a:solidFill>
                <a:srgbClr val="213159"/>
              </a:solidFill>
              <a:latin typeface="Trebuchet MS"/>
            </a:endParaRPr>
          </a:p>
          <a:p>
            <a:pPr marL="285840" indent="-285840"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b1c15"/>
                </a:solidFill>
                <a:latin typeface="Trebuchet MS"/>
              </a:rPr>
              <a:t>Assignment 2</a:t>
            </a:r>
            <a:endParaRPr b="0" lang="en-US" sz="2800" spc="-1" strike="noStrike">
              <a:solidFill>
                <a:srgbClr val="213159"/>
              </a:solidFill>
              <a:latin typeface="Trebuchet MS"/>
            </a:endParaRPr>
          </a:p>
          <a:p>
            <a:pPr lvl="1" marL="762120" indent="-285840"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</a:rPr>
              <a:t>Write a polymorphic map function that applies a function over a list and returns a new list with the result.</a:t>
            </a:r>
            <a:endParaRPr b="0" lang="en-US" sz="2400" spc="-1" strike="noStrike">
              <a:solidFill>
                <a:srgbClr val="213159"/>
              </a:solidFill>
              <a:latin typeface="Trebuchet MS"/>
            </a:endParaRPr>
          </a:p>
          <a:p>
            <a:pPr lvl="1" marL="762120" indent="-285840"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</a:rPr>
              <a:t>Write three functions that transform from:</a:t>
            </a:r>
            <a:endParaRPr b="0" lang="en-US" sz="2400" spc="-1" strike="noStrike">
              <a:solidFill>
                <a:srgbClr val="213159"/>
              </a:solidFill>
              <a:latin typeface="Trebuchet MS"/>
            </a:endParaRPr>
          </a:p>
          <a:p>
            <a:pPr lvl="2" marL="1143000" indent="-190440">
              <a:spcBef>
                <a:spcPts val="4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3159"/>
                </a:solidFill>
                <a:latin typeface="Trebuchet MS"/>
              </a:rPr>
              <a:t>integer to real </a:t>
            </a:r>
            <a:endParaRPr b="0" lang="en-US" sz="2000" spc="-1" strike="noStrike">
              <a:solidFill>
                <a:srgbClr val="213159"/>
              </a:solidFill>
              <a:latin typeface="Trebuchet MS"/>
            </a:endParaRPr>
          </a:p>
          <a:p>
            <a:pPr lvl="2" marL="1143000" indent="-190440">
              <a:spcBef>
                <a:spcPts val="4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3159"/>
                </a:solidFill>
                <a:latin typeface="Trebuchet MS"/>
              </a:rPr>
              <a:t>integer to string</a:t>
            </a:r>
            <a:endParaRPr b="0" lang="en-US" sz="2000" spc="-1" strike="noStrike">
              <a:solidFill>
                <a:srgbClr val="213159"/>
              </a:solidFill>
              <a:latin typeface="Trebuchet MS"/>
            </a:endParaRPr>
          </a:p>
          <a:p>
            <a:pPr lvl="2" marL="1143000" indent="-190440">
              <a:spcBef>
                <a:spcPts val="4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3159"/>
                </a:solidFill>
                <a:latin typeface="Trebuchet MS"/>
              </a:rPr>
              <a:t>real to string </a:t>
            </a:r>
            <a:endParaRPr b="0" lang="en-US" sz="2000" spc="-1" strike="noStrike">
              <a:solidFill>
                <a:srgbClr val="213159"/>
              </a:solidFill>
              <a:latin typeface="Trebuchet MS"/>
            </a:endParaRPr>
          </a:p>
          <a:p>
            <a:pPr lvl="1" marL="762120" indent="-285840"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</a:rPr>
              <a:t>Use your map function and the two transformation functions to transform the </a:t>
            </a:r>
            <a:r>
              <a:rPr b="1" lang="en-US" sz="2400" spc="-1" strike="noStrike">
                <a:solidFill>
                  <a:srgbClr val="213159"/>
                </a:solidFill>
                <a:latin typeface="Courier New"/>
              </a:rPr>
              <a:t>Types.intList</a:t>
            </a:r>
            <a:r>
              <a:rPr b="0" lang="en-US" sz="2400" spc="-1" strike="noStrike">
                <a:solidFill>
                  <a:srgbClr val="213159"/>
                </a:solidFill>
                <a:latin typeface="Trebuchet MS"/>
              </a:rPr>
              <a:t> to a list of reals and a list of string, then apply the ordering function from Assignment 1 on the newly created lists</a:t>
            </a:r>
            <a:endParaRPr b="0" lang="en-US" sz="2400" spc="-1" strike="noStrike">
              <a:solidFill>
                <a:srgbClr val="213159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Slide Number Placeholder 3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2C4BB-37AD-43FB-AE82-6E1B320CF526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Exercises – </a:t>
            </a: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06_advanced (III)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3640" y="914040"/>
            <a:ext cx="883908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See </a:t>
            </a:r>
            <a:r>
              <a:rPr b="1" lang="en-US" sz="3200" spc="-1" strike="noStrike">
                <a:solidFill>
                  <a:srgbClr val="7b1c15"/>
                </a:solidFill>
                <a:latin typeface="Courier New"/>
              </a:rPr>
              <a:t>README.txt</a:t>
            </a: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 in the Eclipse project</a:t>
            </a: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  <a:p>
            <a:pPr marL="285840" indent="-285840"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b1c15"/>
                </a:solidFill>
                <a:latin typeface="Trebuchet MS"/>
              </a:rPr>
              <a:t>Assignment 3</a:t>
            </a: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  <a:p>
            <a:pPr lvl="1" marL="762120" indent="-285840"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Write a polymorphic map function that applies a print function over a list (of Strings) and prints the it.</a:t>
            </a:r>
            <a:endParaRPr b="0" lang="en-US" sz="2800" spc="-1" strike="noStrike">
              <a:solidFill>
                <a:srgbClr val="213159"/>
              </a:solidFill>
              <a:latin typeface="Trebuchet MS"/>
            </a:endParaRPr>
          </a:p>
          <a:p>
            <a:pPr lvl="1" marL="762120" indent="-285840"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Use the transformer functions from real-&gt;string and integer-&gt;string from Assignment 2 to transform the real list or the integer list to a string list for printing.</a:t>
            </a:r>
            <a:endParaRPr b="0" lang="en-US" sz="2800" spc="-1" strike="noStrike">
              <a:solidFill>
                <a:srgbClr val="213159"/>
              </a:solidFill>
              <a:latin typeface="Trebuchet MS"/>
            </a:endParaRPr>
          </a:p>
          <a:p>
            <a:pPr marL="285840" indent="-285840"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Compare your solution with the </a:t>
            </a:r>
            <a:r>
              <a:rPr b="1" lang="en-US" sz="2800" spc="-1" strike="noStrike">
                <a:solidFill>
                  <a:srgbClr val="7b1c15"/>
                </a:solidFill>
                <a:latin typeface="Courier New"/>
              </a:rPr>
              <a:t>SOLUTION.txt</a:t>
            </a: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 you find in the Eclipse project</a:t>
            </a:r>
            <a:endParaRPr b="0" lang="en-US" sz="2800" spc="-1" strike="noStrike">
              <a:solidFill>
                <a:srgbClr val="213159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Slide Number Placeholder 3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01AB2-7952-4BA4-8142-1CFE5DE72B2B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OMC Overview 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  <a:p>
            <a:pPr marL="285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  <a:p>
            <a:pPr marL="285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  <a:p>
            <a:pPr marL="285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  <a:p>
            <a:pPr marL="2858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13159"/>
                </a:solidFill>
                <a:latin typeface="Trebuchet MS"/>
              </a:rPr>
              <a:t>We are Switching to OMC Overview now!</a:t>
            </a: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lide Number Placeholder 3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95D26-32BA-4311-B6A4-5A5441A00091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elected Exercises in this Course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0" y="620640"/>
            <a:ext cx="914400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6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3159"/>
              </a:solidFill>
              <a:latin typeface="Trebuchet MS"/>
            </a:endParaRPr>
          </a:p>
          <a:p>
            <a:pPr lvl="1" marL="762120" indent="-285840"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00_simplesim</a:t>
            </a:r>
            <a:endParaRPr b="0" lang="en-US" sz="2800" spc="-1" strike="noStrike">
              <a:solidFill>
                <a:srgbClr val="213159"/>
              </a:solidFill>
              <a:latin typeface="Trebuchet MS"/>
            </a:endParaRPr>
          </a:p>
          <a:p>
            <a:pPr lvl="1" marL="762120" indent="-285840"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01_experiment</a:t>
            </a:r>
            <a:endParaRPr b="0" lang="en-US" sz="2800" spc="-1" strike="noStrike">
              <a:solidFill>
                <a:srgbClr val="213159"/>
              </a:solidFill>
              <a:latin typeface="Trebuchet MS"/>
            </a:endParaRPr>
          </a:p>
          <a:p>
            <a:pPr lvl="1" marL="762120" indent="-285840"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02a_exp1, (02b_exp2 optional)</a:t>
            </a:r>
            <a:endParaRPr b="0" lang="en-US" sz="2800" spc="-1" strike="noStrike">
              <a:solidFill>
                <a:srgbClr val="213159"/>
              </a:solidFill>
              <a:latin typeface="Trebuchet MS"/>
            </a:endParaRPr>
          </a:p>
          <a:p>
            <a:pPr lvl="1" marL="762120" indent="-285840"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03_symbolicderivative</a:t>
            </a:r>
            <a:endParaRPr b="0" lang="en-US" sz="2800" spc="-1" strike="noStrike">
              <a:solidFill>
                <a:srgbClr val="213159"/>
              </a:solidFill>
              <a:latin typeface="Trebuchet MS"/>
            </a:endParaRPr>
          </a:p>
          <a:p>
            <a:pPr lvl="1" marL="762120" indent="-285840"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04_assignment (optional)</a:t>
            </a:r>
            <a:endParaRPr b="0" lang="en-US" sz="2800" spc="-1" strike="noStrike">
              <a:solidFill>
                <a:srgbClr val="213159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Slide Number Placeholder 3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2568D-6B50-43B9-BADF-1ED9CFB359F0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202680" y="44280"/>
            <a:ext cx="877572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OpenModelica Development Toolkit (OMDev) 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250560" y="836640"/>
            <a:ext cx="8496360" cy="53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68560" indent="-268560">
              <a:lnSpc>
                <a:spcPct val="80000"/>
              </a:lnSpc>
              <a:spcBef>
                <a:spcPts val="64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13159"/>
                </a:solidFill>
                <a:latin typeface="Trebuchet MS"/>
              </a:rPr>
              <a:t>OMDev is a pre-packaged pre-compiled kit containing all tools needed for OpenModelica development. Just unpack and start working on your platform. (Windows, (Linux))</a:t>
            </a:r>
            <a:endParaRPr b="0" lang="en-US" sz="2600" spc="-1" strike="noStrike">
              <a:solidFill>
                <a:srgbClr val="213159"/>
              </a:solidFill>
              <a:latin typeface="Trebuchet MS"/>
            </a:endParaRPr>
          </a:p>
          <a:p>
            <a:pPr marL="268560" indent="-268560">
              <a:lnSpc>
                <a:spcPct val="80000"/>
              </a:lnSpc>
              <a:spcBef>
                <a:spcPts val="64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13159"/>
                </a:solidFill>
                <a:latin typeface="Trebuchet MS"/>
              </a:rPr>
              <a:t>MetaModelica Compiler (MMC) – for developing OMC</a:t>
            </a:r>
            <a:endParaRPr b="0" lang="en-US" sz="2600" spc="-1" strike="noStrike">
              <a:solidFill>
                <a:srgbClr val="213159"/>
              </a:solidFill>
              <a:latin typeface="Trebuchet MS"/>
            </a:endParaRPr>
          </a:p>
          <a:p>
            <a:pPr marL="268560" indent="-268560">
              <a:lnSpc>
                <a:spcPct val="80000"/>
              </a:lnSpc>
              <a:spcBef>
                <a:spcPts val="64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13159"/>
                </a:solidFill>
                <a:latin typeface="Trebuchet MS"/>
              </a:rPr>
              <a:t>OpenModelica Compiler (OMC) – for browsing support</a:t>
            </a:r>
            <a:endParaRPr b="0" lang="en-US" sz="2600" spc="-1" strike="noStrike">
              <a:solidFill>
                <a:srgbClr val="213159"/>
              </a:solidFill>
              <a:latin typeface="Trebuchet MS"/>
            </a:endParaRPr>
          </a:p>
          <a:p>
            <a:pPr marL="268560" indent="-268560">
              <a:lnSpc>
                <a:spcPct val="80000"/>
              </a:lnSpc>
              <a:spcBef>
                <a:spcPts val="64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13159"/>
                </a:solidFill>
                <a:latin typeface="Trebuchet MS"/>
              </a:rPr>
              <a:t>Eclipse plugin MDT – (Modelica Development Tooling), e.g. for compiler (OMC) development</a:t>
            </a:r>
            <a:endParaRPr b="0" lang="en-US" sz="2600" spc="-1" strike="noStrike">
              <a:solidFill>
                <a:srgbClr val="213159"/>
              </a:solidFill>
              <a:latin typeface="Trebuchet MS"/>
            </a:endParaRPr>
          </a:p>
          <a:p>
            <a:pPr marL="268560" indent="-268560">
              <a:lnSpc>
                <a:spcPct val="80000"/>
              </a:lnSpc>
              <a:spcBef>
                <a:spcPts val="64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13159"/>
                </a:solidFill>
                <a:latin typeface="Trebuchet MS"/>
              </a:rPr>
              <a:t>Pre-compiled Corba (MICO) for tool communication</a:t>
            </a:r>
            <a:endParaRPr b="0" lang="en-US" sz="2600" spc="-1" strike="noStrike">
              <a:solidFill>
                <a:srgbClr val="213159"/>
              </a:solidFill>
              <a:latin typeface="Trebuchet MS"/>
            </a:endParaRPr>
          </a:p>
          <a:p>
            <a:pPr marL="268560" indent="-268560">
              <a:lnSpc>
                <a:spcPct val="80000"/>
              </a:lnSpc>
              <a:spcBef>
                <a:spcPts val="64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13159"/>
                </a:solidFill>
                <a:latin typeface="Trebuchet MS"/>
              </a:rPr>
              <a:t>Packaged Gnu compiler (Mingw version for Windows)</a:t>
            </a:r>
            <a:endParaRPr b="0" lang="en-US" sz="2600" spc="-1" strike="noStrike">
              <a:solidFill>
                <a:srgbClr val="213159"/>
              </a:solidFill>
              <a:latin typeface="Trebuchet MS"/>
            </a:endParaRPr>
          </a:p>
          <a:p>
            <a:pPr marL="268560" indent="-268560">
              <a:lnSpc>
                <a:spcPct val="80000"/>
              </a:lnSpc>
              <a:spcBef>
                <a:spcPts val="64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13159"/>
                </a:solidFill>
                <a:latin typeface="Trebuchet MS"/>
              </a:rPr>
              <a:t>Emacs mode</a:t>
            </a:r>
            <a:endParaRPr b="0" lang="en-US" sz="2600" spc="-1" strike="noStrike">
              <a:solidFill>
                <a:srgbClr val="213159"/>
              </a:solidFill>
              <a:latin typeface="Trebuchet MS"/>
            </a:endParaRPr>
          </a:p>
          <a:p>
            <a:pPr marL="268560" indent="-268560">
              <a:lnSpc>
                <a:spcPct val="80000"/>
              </a:lnSpc>
              <a:spcBef>
                <a:spcPts val="64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13159"/>
                </a:solidFill>
                <a:latin typeface="Trebuchet MS"/>
              </a:rPr>
              <a:t>Online (web) Subversion for version handling</a:t>
            </a:r>
            <a:endParaRPr b="0" lang="en-US" sz="2600" spc="-1" strike="noStrike">
              <a:solidFill>
                <a:srgbClr val="213159"/>
              </a:solidFill>
              <a:latin typeface="Trebuchet MS"/>
            </a:endParaRPr>
          </a:p>
          <a:p>
            <a:pPr marL="268560" indent="-268560">
              <a:lnSpc>
                <a:spcPct val="80000"/>
              </a:lnSpc>
              <a:spcBef>
                <a:spcPts val="64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13159"/>
                </a:solidFill>
                <a:latin typeface="Trebuchet MS"/>
              </a:rPr>
              <a:t>Online (web) Bugzilla for bug reporting</a:t>
            </a:r>
            <a:endParaRPr b="0" lang="en-US" sz="2600" spc="-1" strike="noStrike">
              <a:solidFill>
                <a:srgbClr val="213159"/>
              </a:solidFill>
              <a:latin typeface="Trebuchet MS"/>
            </a:endParaRPr>
          </a:p>
          <a:p>
            <a:pPr marL="268560" indent="-268560">
              <a:lnSpc>
                <a:spcPct val="80000"/>
              </a:lnSpc>
              <a:spcBef>
                <a:spcPts val="64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13159"/>
                </a:solidFill>
                <a:latin typeface="Trebuchet MS"/>
              </a:rPr>
              <a:t>Automatic regression testing using a test suite</a:t>
            </a:r>
            <a:endParaRPr b="0" lang="en-US" sz="2600" spc="-1" strike="noStrike">
              <a:solidFill>
                <a:srgbClr val="213159"/>
              </a:solidFill>
              <a:latin typeface="Trebuchet MS"/>
            </a:endParaRPr>
          </a:p>
          <a:p>
            <a:pPr marL="268560" indent="-268560">
              <a:lnSpc>
                <a:spcPct val="80000"/>
              </a:lnSpc>
              <a:spcBef>
                <a:spcPts val="64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13159"/>
                </a:solidFill>
                <a:latin typeface="Trebuchet MS"/>
              </a:rPr>
              <a:t>Interactive MetaModelica debugger</a:t>
            </a:r>
            <a:endParaRPr b="0" lang="en-US" sz="2600" spc="-1" strike="noStrike">
              <a:solidFill>
                <a:srgbClr val="213159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Slide Number Placeholder 3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394D5-F01B-4978-A2E9-4E5946ABE94B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77572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OpenModelica Environment Architecture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  <a:p>
            <a:pPr marL="285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  <a:p>
            <a:pPr marL="285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23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Rectangle 5"/>
          <p:cNvSpPr/>
          <p:nvPr/>
        </p:nvSpPr>
        <p:spPr>
          <a:xfrm>
            <a:off x="0" y="26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0" name="Object 6"/>
          <p:cNvGraphicFramePr/>
          <p:nvPr/>
        </p:nvGraphicFramePr>
        <p:xfrm>
          <a:off x="546120" y="1509840"/>
          <a:ext cx="7918560" cy="395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6120" y="1509840"/>
                    <a:ext cx="7918560" cy="39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Slide Number Placeholder 3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AE7DE-26A0-47AB-9EA7-C44B180F2AEC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OpenModelica Client-Server Architecture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graphicFrame>
        <p:nvGraphicFramePr>
          <p:cNvPr id="244" name="Object 3"/>
          <p:cNvGraphicFramePr/>
          <p:nvPr/>
        </p:nvGraphicFramePr>
        <p:xfrm>
          <a:off x="1233360" y="1201680"/>
          <a:ext cx="6570720" cy="466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33360" y="1201680"/>
                    <a:ext cx="6570720" cy="466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Slide Number Placeholder 3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5FC8F-3DB0-4747-9684-43011451826A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Released in OpenModelica 1.4.5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OpenModelica compiler/interpreter – OMC </a:t>
            </a: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  <a:p>
            <a:pPr marL="285840" indent="-285840"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Interactive session handler – OMShell </a:t>
            </a: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  <a:p>
            <a:pPr marL="285840" indent="-285840"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OpenModelica Notebook with DrModelica –  OMNotebook </a:t>
            </a: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  <a:p>
            <a:pPr marL="285840" indent="-285840"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OpenModelica Eclipse plugin MDT</a:t>
            </a: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  <a:p>
            <a:pPr marL="285840" indent="-285840"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simForge graphic editor </a:t>
            </a: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  <a:p>
            <a:pPr marL="285840" indent="-285840"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MetaModelica Debugger</a:t>
            </a:r>
            <a:br>
              <a:rPr sz="3200"/>
            </a:b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 </a:t>
            </a: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Slide Number Placeholder 3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79181-8F43-40AF-A652-F36259041B7E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OpenModelica Compiler/Interpreter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203040" y="1125360"/>
            <a:ext cx="8763120" cy="516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62800" indent="-262800"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OpenModelica 1.4.5</a:t>
            </a: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  <a:p>
            <a:pPr marL="262800" indent="-262800"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Currently implemented in 180 000 lines of MetaModelica</a:t>
            </a: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  <a:p>
            <a:pPr marL="262800" indent="-262800">
              <a:spcBef>
                <a:spcPts val="15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Includes code generation, BLT-transformation, index reduction, connection to DASSL, etc.</a:t>
            </a: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  <a:p>
            <a:pPr marL="262800" indent="-262800">
              <a:spcBef>
                <a:spcPts val="15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Most of the Modelica language including classes, functions, inheritance, modifications, import, etc.</a:t>
            </a: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  <a:p>
            <a:pPr marL="262800" indent="-262800">
              <a:spcBef>
                <a:spcPts val="15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Hybrid/Discrete event support</a:t>
            </a: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Slide Number Placeholder 3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36F6F-B9CA-458E-BE74-642E2AB91021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Corba Client-Server API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7124760" cy="174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Simple text-based (string) communication in Modelica Syntax</a:t>
            </a:r>
            <a:endParaRPr b="0" lang="en-US" sz="2800" spc="-1" strike="noStrike">
              <a:solidFill>
                <a:srgbClr val="213159"/>
              </a:solidFill>
              <a:latin typeface="Trebuchet MS"/>
            </a:endParaRPr>
          </a:p>
          <a:p>
            <a:pPr marL="285840" indent="-28584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API supporting model structure query and update</a:t>
            </a:r>
            <a:endParaRPr b="0" lang="en-US" sz="28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255" name="Text Box 4"/>
          <p:cNvSpPr/>
          <p:nvPr/>
        </p:nvSpPr>
        <p:spPr>
          <a:xfrm>
            <a:off x="635040" y="2803680"/>
            <a:ext cx="7149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 Call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ls fulfill the normal Modelica function call syntax.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aveModel("MyResistorFile.mo",MyResisto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ll save the model MyResistor into the file “MyResistorFile.mo”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creating new models it is most practical to send a model, e.g.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odel Foo   end Foo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, e.g.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onnector Port   end Port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Slide Number Placeholder 3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C0054-527B-4AB7-9F5E-DE795EE970A4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Some of the Corba API functions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graphicFrame>
        <p:nvGraphicFramePr>
          <p:cNvPr id="258" name=""/>
          <p:cNvGraphicFramePr/>
          <p:nvPr/>
        </p:nvGraphicFramePr>
        <p:xfrm>
          <a:off x="203040" y="765000"/>
          <a:ext cx="8509320" cy="21733200"/>
        </p:xfrm>
        <a:graphic>
          <a:graphicData uri="http://schemas.openxmlformats.org/drawingml/2006/table">
            <a:tbl>
              <a:tblPr/>
              <a:tblGrid>
                <a:gridCol w="3237120"/>
                <a:gridCol w="527220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saveModel(A1&lt;string&gt;,A2&lt;cref&gt;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r" pos="34005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Saves the model (A2) in a file given by a string (A1). This call is also in typed API.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loadFile(A1&lt;string&gt;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Loads all models in the file. Also in typed API. Returns list of names of top level classes in the loaded file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loadModel(A1&lt;cref&gt;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Loads the model (A1) by looking up the correct file to load in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$MODELICAPATH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. Loads all models in that file into the symbol table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deleteClass(A1&lt;cref&gt;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Deletes the class from the symbol table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addComponent(A1&lt;ident&gt;,A2&lt;cref&gt;,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A3&lt;cref&gt;,annotate=&lt;expr&gt;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Adds a component with name (A1), type (A2), and class (A3) as arguments. Optional annotations are given with the named argument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annotate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deleteComponent(A1&lt;ident&gt;,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A2&lt;cref&gt;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Deletes a component (A1) within a class (A2)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updateComponent(A1&lt;ident&gt;,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A2&lt;cref&gt;,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A3&lt;cref&gt;,annotate=&lt;expr&gt;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Updates an already existing component with name (A1), type (A2), and class (A3) as arguments. Optional annotations are given with the named argument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annotate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addClassAnnotation(A1&lt;cref&gt;, annotate=&lt;expr&gt;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Adds annotation given by A2( in the form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annotate= classmod(...))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 to the model definition referenced by A1. Should be used to add Icon Diagram and Documentation annotation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getComponents(A1&lt;cref&gt;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16200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a list of the component declarations within class A1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1620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{{Atype,varidA,”commentA”},{Btype,varidB,”commentB”}, {...}}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getComponentAnnotations(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A1&lt;cref&gt;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a list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{...}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 of all annotations of all components in A1, in the same order as the components, one annotation per component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getComponentCount(A1&lt;cref&gt;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the number (as a string) of components in a class, e.g return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“2”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 if there are 2 component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getNthComponent(A1&lt;cref&gt;,A2&lt;int&gt;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the belonging class, component name and type name of the nth component of a class, e.g.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“A.B.C,R2,Resistor”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, where the first component is numbered 1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getNthComponentAnnotation(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A1&lt;cref&gt;,A2&lt;int&gt;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the flattened annotation record of the nth component  (A2) (the first is has no 1) within class/component A1. Consists of a comma separated string of 15 values, see Annotations in Section 2.4.4 below, e.g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“false,10,30,...”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getNthComponentModification(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A1&lt;cref&gt;,A2&lt;int&gt;)??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the modification of the nth component  (A2) where the first  has no 1) of class/component A1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getInheritanceCount(A1&lt;cref&gt;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the number (as a string) of inherited classes of a clas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getNthInheritedClass(A1&lt;cref&gt;,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A2&lt;int&gt;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the type name of the nth inherited class of a class. The first class has number 1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getConnectionCount(A1&lt;cref&gt;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the number (as a string) of connections in the model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getNthConnection(A1&lt;cref&gt;,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A2&lt;int&gt;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the nth connection, as a comma separated pair of connectors, e.g.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“R1.n,R2.p”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. The first has number 1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getNthConnectionAnnotation(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A1&lt;cref&gt;,A2&lt;int&gt;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the nth connection annotation as comma separated list of values of a flattened record, see Annotations in Section 2.4.4  below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addConnection(A1&lt;cref&gt;,A2&lt;cref&gt;,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A3&lt;cref&gt;, annotate=&lt;expr&gt;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Adds connection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connect(A1,A2)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 to model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A3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, with annotation given by the named argument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annotate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updateConnection(A1&lt;cref&gt;,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A2&lt;cref&gt;,A3&lt;cref&gt;,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annotate=&lt;expr&gt;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Updates an already existing connection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deleteConnection(A1&lt;cref&gt;,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A2&lt;cref&gt;,A3&lt;cref&gt;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Deletes the connection connect(A1,A2) in class given by A3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addEquation(A1&lt;cref&gt;,A2&lt;expr&gt;,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A3&lt;expr&gt;)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(NotYetImplemented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Adds the equation A2=A3 to the model named by A1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getEquationCount(A1&lt;cref&gt;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285840" indent="-2858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(NotYetImplemented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the number of equations (as a string) in the model named A1. (This includes connection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getNthEquation(A1&lt;cref&gt;,A2&lt;int&gt;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285840" indent="-2858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(NotYetImplemented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the nth (A2) equation of the model named by A1. e.g.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“der(x)=-1”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 or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“connect(A.b,C.a)”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. The first has number 1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deleteNthEquation(A1&lt;cref&gt;,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A2&lt;int&gt;)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(NotYetImplemented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Deletes the nth (A2) equation in the model named by A1. The first has number 1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getConnectorCount(A1&lt;cref&gt;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the number of connectors (as a string) of a class A1. NOTE: partial code instantiation of inheritance is performed before investigating the connector count, in order also to get the inherited connector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getNthConnector(A1&lt;cref&gt;,A2&lt;int&gt;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the name of the nth connector, e.g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“n”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. The first connector has number 1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getNthConnectorIconAnnotation(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A1&lt;cref&gt;,A2&lt;int&gt;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the nth connector icon layer annotation as comma separated list of values of a flat record, see Annotation below. NOTE: Since connectors can be inherited, a partial instantiation of the inheritance structure is performed. The first has number 1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getNthConnectorDiagramAnnotation(A1&lt;cref&gt;,A2&lt;int&gt;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285840" indent="-2858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(NotYetImplemented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the nth connector diagram layer annotation as comma separated list of values of a flat record, see Annotation below. NOTE: Since connectors can be inherited, a partial instantiation of the inheritance structure is performed. The first has number 1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getIconAnnotation(A1&lt;cref&gt;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the Icon Annotation of the class named by A1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getDiagramAnnotation(A1&lt;cref&gt;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the Diagram annotation of the class named by A1. NOTE: Since the Diagram annotations can be found in base classes a partial code instantiation is performed that flattens the inheritance hierarchy in order to find all annotation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getPackages(A1&lt;cref&gt;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the names of all Packages in a class/package named by A1 as a list, e.g.: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{Electrical,Blocks,Mechanics, Constants,Math,SIunits}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getPackages(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the names of all package definitions in the global scope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getClassNames(A1&lt;cref&gt;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the names of all class defintions in a class/package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getClassNames(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the names of all class definitions in the global scope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getClassRestriction(A1&lt;cref&gt;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the kind of restricted class of &lt;cref&gt;, e.g.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model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connector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function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packag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, etc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isType(A1&lt;cref&gt;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tru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 if class is a type, otherwise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fals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isPrimitive(A1&lt;cref&gt;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tru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 if class is of primitive type, otherwise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fals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isConnector(A1&lt;cref&gt;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tru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 if class is a connector, otherwise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fals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isModel(A1&lt;cref&gt;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tru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 if class is a model, otherwise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fals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isRecord(A1&lt;cref&gt;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tru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 if class is a record, otherwise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fals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isBlock(A1&lt;cref&gt;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tru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 if class is a block, otherwise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fals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isFunction(A1&lt;cref&gt;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tru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 if class is a function, otherwise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fals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isPackage(A1&lt;cref&gt;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tru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 if class is a package, otherwise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fals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isClass(A1&lt;cref&gt;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tru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 if A1 is a class, otherwise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fals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isParameter(A1&lt;cref&gt;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tru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 if A1 is a parameter, otherwise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fals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isConstant(A1&lt;cref&gt;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tru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 if A1 is a constant, otherwise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fals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isProtected(A1&lt;cref&gt;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tru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 if A1 is protected, otherwise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fals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existClass(A1&lt;cref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tru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 if class exists in symbolTable, otherwise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fals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existModel(A1&lt;cref&gt;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tru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 if class exists in symbol table and has restriction model, otherwise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fals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existPackage(A1&lt;cref&gt;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tru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 if class exists in symbol table and has restriction package, otherwise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fals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Slide Number Placeholder 3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D93CD-030F-47D8-8911-687409B975FC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Platforms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560" y="914040"/>
            <a:ext cx="883908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68560" indent="-268560"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All OpenModelica GUI tools (OMShell, OMNotebook, ...) are developed on the Qt4 GUI library, portable between Windows, Linux, Mac</a:t>
            </a: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  <a:p>
            <a:pPr marL="268560" indent="-268560"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Both compilers (OMC, MMC) are portable between the three platforms</a:t>
            </a: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  <a:p>
            <a:pPr marL="2685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  <a:p>
            <a:pPr marL="268560" indent="-268560"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Windows – currently main development and release platform</a:t>
            </a: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  <a:p>
            <a:pPr marL="268560" indent="-268560"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Linux – also used for development</a:t>
            </a: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  <a:p>
            <a:pPr marL="268560" indent="-268560"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Mac - available</a:t>
            </a: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Slide Number Placeholder 3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13453-269F-44BD-8EC3-C62BA0159F14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Eclipse – Switching to Java Perspective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264" name="Picture 7" descr=""/>
          <p:cNvPicPr/>
          <p:nvPr/>
        </p:nvPicPr>
        <p:blipFill>
          <a:blip r:embed="rId1"/>
          <a:stretch/>
        </p:blipFill>
        <p:spPr>
          <a:xfrm>
            <a:off x="395280" y="620640"/>
            <a:ext cx="8317080" cy="623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Slide Number Placeholder 3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E7F2D-0DA7-4D82-BD72-EA6A211A419D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Exercises – </a:t>
            </a: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07_OMCAndCorba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53640" y="914040"/>
            <a:ext cx="883908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80080" indent="-280080"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See </a:t>
            </a:r>
            <a:r>
              <a:rPr b="1" lang="en-US" sz="3200" spc="-1" strike="noStrike">
                <a:solidFill>
                  <a:srgbClr val="7b1c15"/>
                </a:solidFill>
                <a:latin typeface="Courier New"/>
              </a:rPr>
              <a:t>README.txt</a:t>
            </a: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 in the Eclipse project</a:t>
            </a: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  <a:p>
            <a:pPr marL="280080" indent="-280080"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In this exercise you will send commands to the OMC Compiler (</a:t>
            </a:r>
            <a:r>
              <a:rPr b="1" lang="en-US" sz="3200" spc="-1" strike="noStrike">
                <a:solidFill>
                  <a:srgbClr val="213159"/>
                </a:solidFill>
                <a:latin typeface="Courier New"/>
              </a:rPr>
              <a:t>omc.exe</a:t>
            </a: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) via CORBA</a:t>
            </a: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  <a:p>
            <a:pPr marL="280080" indent="-280080"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b1c15"/>
                </a:solidFill>
                <a:latin typeface="Trebuchet MS"/>
              </a:rPr>
              <a:t>OMCProxy.java</a:t>
            </a: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 has functionality for</a:t>
            </a: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  <a:p>
            <a:pPr lvl="1" marL="746640" indent="-280080"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starting the omc process if is not already started</a:t>
            </a:r>
            <a:endParaRPr b="0" lang="en-US" sz="2800" spc="-1" strike="noStrike">
              <a:solidFill>
                <a:srgbClr val="213159"/>
              </a:solidFill>
              <a:latin typeface="Trebuchet MS"/>
            </a:endParaRPr>
          </a:p>
          <a:p>
            <a:pPr lvl="2" marL="1119960" indent="-186480"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</a:rPr>
              <a:t>the starting is a bit different for Windows/Linux</a:t>
            </a:r>
            <a:endParaRPr b="0" lang="en-US" sz="2400" spc="-1" strike="noStrike">
              <a:solidFill>
                <a:srgbClr val="213159"/>
              </a:solidFill>
              <a:latin typeface="Trebuchet MS"/>
            </a:endParaRPr>
          </a:p>
          <a:p>
            <a:pPr lvl="1" marL="746640" indent="-280080"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sending commands to OMC</a:t>
            </a:r>
            <a:endParaRPr b="0" lang="en-US" sz="2800" spc="-1" strike="noStrike">
              <a:solidFill>
                <a:srgbClr val="213159"/>
              </a:solidFill>
              <a:latin typeface="Trebuchet MS"/>
            </a:endParaRPr>
          </a:p>
          <a:p>
            <a:pPr lvl="1" marL="746640" indent="-280080"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logging facilities</a:t>
            </a:r>
            <a:endParaRPr b="0" lang="en-US" sz="2800" spc="-1" strike="noStrike">
              <a:solidFill>
                <a:srgbClr val="213159"/>
              </a:solidFill>
              <a:latin typeface="Trebuchet MS"/>
            </a:endParaRPr>
          </a:p>
          <a:p>
            <a:pPr marL="280080" indent="-280080"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If you need clients in C++ or Python check</a:t>
            </a: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  <a:p>
            <a:pPr lvl="1" marL="746640" indent="-280080">
              <a:spcBef>
                <a:spcPts val="4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1c1c1c"/>
                </a:solidFill>
                <a:uFillTx/>
                <a:latin typeface="Trebuchet MS"/>
                <a:hlinkClick r:id="rId1"/>
              </a:rPr>
              <a:t>http://www.ida.liu.se/labs/pelab/modelica/OpenModelica.html</a:t>
            </a:r>
            <a:endParaRPr b="0" lang="en-US" sz="2000" spc="-1" strike="noStrike">
              <a:solidFill>
                <a:srgbClr val="213159"/>
              </a:solidFill>
              <a:latin typeface="Trebuchet MS"/>
            </a:endParaRPr>
          </a:p>
          <a:p>
            <a:pPr lvl="1" marL="746640" indent="-280080">
              <a:spcBef>
                <a:spcPts val="4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13159"/>
                </a:solidFill>
                <a:latin typeface="Trebuchet MS"/>
              </a:rPr>
              <a:t>developer pages</a:t>
            </a:r>
            <a:endParaRPr b="0" lang="en-US" sz="2000" spc="-1" strike="noStrike">
              <a:solidFill>
                <a:srgbClr val="213159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lide Number Placeholder 3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86676-626E-45DB-A6BC-FC0F7C90EA70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Eclipse Setup – Switching Workspace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100" name="Picture 6" descr=""/>
          <p:cNvPicPr/>
          <p:nvPr/>
        </p:nvPicPr>
        <p:blipFill>
          <a:blip r:embed="rId1"/>
          <a:stretch/>
        </p:blipFill>
        <p:spPr>
          <a:xfrm>
            <a:off x="404640" y="608040"/>
            <a:ext cx="8332920" cy="62499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7" descr=""/>
          <p:cNvPicPr/>
          <p:nvPr/>
        </p:nvPicPr>
        <p:blipFill>
          <a:blip r:embed="rId2"/>
          <a:stretch/>
        </p:blipFill>
        <p:spPr>
          <a:xfrm>
            <a:off x="3348000" y="3429000"/>
            <a:ext cx="4371840" cy="2324160"/>
          </a:xfrm>
          <a:prstGeom prst="rect">
            <a:avLst/>
          </a:prstGeom>
          <a:ln w="0">
            <a:noFill/>
          </a:ln>
        </p:spPr>
      </p:pic>
      <p:sp>
        <p:nvSpPr>
          <p:cNvPr id="102" name="Line 8"/>
          <p:cNvSpPr/>
          <p:nvPr/>
        </p:nvSpPr>
        <p:spPr>
          <a:xfrm>
            <a:off x="2484360" y="3429000"/>
            <a:ext cx="1511280" cy="1008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Slide Number Placeholder 3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956AD-0CF2-4053-8CDA-852419C77DCE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Eclipse Setup – Creating the projects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270" name="Picture 4" descr=""/>
          <p:cNvPicPr/>
          <p:nvPr/>
        </p:nvPicPr>
        <p:blipFill>
          <a:blip r:embed="rId1"/>
          <a:stretch/>
        </p:blipFill>
        <p:spPr>
          <a:xfrm>
            <a:off x="468360" y="627120"/>
            <a:ext cx="8307360" cy="623088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5" descr=""/>
          <p:cNvPicPr/>
          <p:nvPr/>
        </p:nvPicPr>
        <p:blipFill>
          <a:blip r:embed="rId2"/>
          <a:stretch/>
        </p:blipFill>
        <p:spPr>
          <a:xfrm>
            <a:off x="0" y="2095560"/>
            <a:ext cx="4762440" cy="476244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6" descr=""/>
          <p:cNvPicPr/>
          <p:nvPr/>
        </p:nvPicPr>
        <p:blipFill>
          <a:blip r:embed="rId3"/>
          <a:stretch/>
        </p:blipFill>
        <p:spPr>
          <a:xfrm>
            <a:off x="4381560" y="2095560"/>
            <a:ext cx="4762440" cy="4762440"/>
          </a:xfrm>
          <a:prstGeom prst="rect">
            <a:avLst/>
          </a:prstGeom>
          <a:ln w="0">
            <a:noFill/>
          </a:ln>
        </p:spPr>
      </p:pic>
      <p:sp>
        <p:nvSpPr>
          <p:cNvPr id="273" name="Oval 7"/>
          <p:cNvSpPr/>
          <p:nvPr/>
        </p:nvSpPr>
        <p:spPr>
          <a:xfrm>
            <a:off x="2266920" y="6308640"/>
            <a:ext cx="936720" cy="549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Line 8"/>
          <p:cNvSpPr/>
          <p:nvPr/>
        </p:nvSpPr>
        <p:spPr>
          <a:xfrm flipV="1">
            <a:off x="3274920" y="3499920"/>
            <a:ext cx="2376720" cy="2808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Line 9"/>
          <p:cNvSpPr/>
          <p:nvPr/>
        </p:nvSpPr>
        <p:spPr>
          <a:xfrm>
            <a:off x="1258920" y="5013360"/>
            <a:ext cx="936720" cy="1368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Line 10"/>
          <p:cNvSpPr/>
          <p:nvPr/>
        </p:nvSpPr>
        <p:spPr>
          <a:xfrm flipH="1">
            <a:off x="1116000" y="1125360"/>
            <a:ext cx="2951280" cy="3529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Slide Number Placeholder 3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83F90-F5D7-4E2B-A726-232248010345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End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  <a:p>
            <a:pPr marL="2858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Thank you!</a:t>
            </a: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  <a:p>
            <a:pPr marL="285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  <a:p>
            <a:pPr marL="2858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Administrative Question:</a:t>
            </a: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  <a:p>
            <a:pPr lvl="1" marL="7621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b1c15"/>
                </a:solidFill>
                <a:latin typeface="Trebuchet MS"/>
              </a:rPr>
              <a:t>What would you like to implement tomorrow </a:t>
            </a:r>
            <a:endParaRPr b="0" lang="en-US" sz="2800" spc="-1" strike="noStrike">
              <a:solidFill>
                <a:srgbClr val="213159"/>
              </a:solidFill>
              <a:latin typeface="Trebuchet MS"/>
            </a:endParaRPr>
          </a:p>
          <a:p>
            <a:pPr lvl="1" marL="7621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b1c15"/>
                </a:solidFill>
                <a:latin typeface="Trebuchet MS"/>
              </a:rPr>
              <a:t>in the OpenModelica Compiler?</a:t>
            </a:r>
            <a:endParaRPr b="0" lang="en-US" sz="2800" spc="-1" strike="noStrike">
              <a:solidFill>
                <a:srgbClr val="213159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Slide Number Placeholder 3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F5683-4521-4BA6-8469-BDBB0146A404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elect and Open all projects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105" name="Picture 4" descr="step01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Slide Number Placeholder 3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E396B-80BD-4927-9BDD-08B2F745C44A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Refresh all projects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108" name="Picture 4" descr="step02"/>
          <p:cNvPicPr/>
          <p:nvPr/>
        </p:nvPicPr>
        <p:blipFill>
          <a:blip r:embed="rId1"/>
          <a:stretch/>
        </p:blipFill>
        <p:spPr>
          <a:xfrm>
            <a:off x="-36360" y="620640"/>
            <a:ext cx="9180360" cy="573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ide Number Placeholder 3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38DA7-200C-47B4-9136-945A7D872D41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Close all projects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111" name="Picture 4" descr="step03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3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1567C-0205-4E3D-9B98-B3F9414E6A01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witch to Modelica Perspective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114" name="Picture 6" descr=""/>
          <p:cNvPicPr/>
          <p:nvPr/>
        </p:nvPicPr>
        <p:blipFill>
          <a:blip r:embed="rId1"/>
          <a:stretch/>
        </p:blipFill>
        <p:spPr>
          <a:xfrm>
            <a:off x="0" y="571680"/>
            <a:ext cx="9144000" cy="55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1T02:12:12Z</dcterms:created>
  <dc:creator>Adrian Pop [adrpo@ida.liu.se, http://www.ida.liu.se/~adrpo]</dc:creator>
  <dc:description/>
  <dc:language>en-US</dc:language>
  <cp:lastModifiedBy>Martin Sjölund</cp:lastModifiedBy>
  <cp:lastPrinted>2001-06-05T14:43:50Z</cp:lastPrinted>
  <dcterms:modified xsi:type="dcterms:W3CDTF">2009-10-23T07:24:48Z</dcterms:modified>
  <cp:revision>44</cp:revision>
  <dc:subject>MetaModelica</dc:subject>
  <dc:title>MetaModelica Tutorial and Exercises</dc:title>
</cp:coreProperties>
</file>